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86.png" ContentType="image/png"/>
  <Override PartName="/ppt/media/image13.png" ContentType="image/png"/>
  <Override PartName="/ppt/media/image1.png" ContentType="image/png"/>
  <Override PartName="/ppt/media/image38.png" ContentType="image/png"/>
  <Override PartName="/ppt/media/image8.png" ContentType="image/png"/>
  <Override PartName="/ppt/media/image85.png" ContentType="image/png"/>
  <Override PartName="/ppt/media/image49.png" ContentType="image/png"/>
  <Override PartName="/ppt/media/image100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19.png" ContentType="image/png"/>
  <Override PartName="/ppt/media/image84.png" ContentType="image/png"/>
  <Override PartName="/ppt/media/image48.png" ContentType="image/png"/>
  <Override PartName="/ppt/media/image11.png" ContentType="image/png"/>
  <Override PartName="/ppt/media/image108.png" ContentType="image/png"/>
  <Override PartName="/ppt/media/image36.png" ContentType="image/png"/>
  <Override PartName="/ppt/media/image6.png" ContentType="image/png"/>
  <Override PartName="/ppt/media/image18.png" ContentType="image/png"/>
  <Override PartName="/ppt/media/image83.png" ContentType="image/png"/>
  <Override PartName="/ppt/media/image29.png" ContentType="image/png"/>
  <Override PartName="/ppt/media/image94.png" ContentType="image/png"/>
  <Override PartName="/ppt/media/image47.png" ContentType="image/png"/>
  <Override PartName="/ppt/media/image10.png" ContentType="image/png"/>
  <Override PartName="/ppt/media/image107.png" ContentType="image/png"/>
  <Override PartName="/ppt/media/image35.png" ContentType="image/png"/>
  <Override PartName="/ppt/media/image5.png" ContentType="image/png"/>
  <Override PartName="/ppt/media/image17.png" ContentType="image/png"/>
  <Override PartName="/ppt/media/image82.png" ContentType="image/png"/>
  <Override PartName="/ppt/media/image28.png" ContentType="image/png"/>
  <Override PartName="/ppt/media/image93.png" ContentType="image/png"/>
  <Override PartName="/ppt/media/image34.png" ContentType="image/png"/>
  <Override PartName="/ppt/media/image65.png" ContentType="image/png"/>
  <Override PartName="/ppt/media/image66.png" ContentType="image/png"/>
  <Override PartName="/ppt/media/image67.png" ContentType="image/png"/>
  <Override PartName="/ppt/media/image68.png" ContentType="image/png"/>
  <Override PartName="/ppt/media/image31.png" ContentType="image/png"/>
  <Override PartName="/ppt/media/image70.png" ContentType="image/png"/>
  <Override PartName="/ppt/media/image69.png" ContentType="image/png"/>
  <Override PartName="/ppt/media/image32.png" ContentType="image/png"/>
  <Override PartName="/ppt/media/image71.png" ContentType="image/png"/>
  <Override PartName="/ppt/media/image72.png" ContentType="image/png"/>
  <Override PartName="/ppt/media/image73.png" ContentType="image/png"/>
  <Override PartName="/ppt/media/image74.png" ContentType="image/png"/>
  <Override PartName="/ppt/media/image75.png" ContentType="image/png"/>
  <Override PartName="/ppt/media/image76.png" ContentType="image/png"/>
  <Override PartName="/ppt/media/image77.png" ContentType="image/png"/>
  <Override PartName="/ppt/media/image78.png" ContentType="image/png"/>
  <Override PartName="/ppt/media/image87.png" ContentType="image/png"/>
  <Override PartName="/ppt/media/image106.png" ContentType="image/png"/>
  <Override PartName="/ppt/media/image99.png" ContentType="image/png"/>
  <Override PartName="/ppt/media/image62.png" ContentType="image/png"/>
  <Override PartName="/ppt/media/image105.png" ContentType="image/png"/>
  <Override PartName="/ppt/media/image98.png" ContentType="image/png"/>
  <Override PartName="/ppt/media/image61.png" ContentType="image/png"/>
  <Override PartName="/ppt/media/image104.png" ContentType="image/png"/>
  <Override PartName="/ppt/media/image97.png" ContentType="image/png"/>
  <Override PartName="/ppt/media/image60.png" ContentType="image/png"/>
  <Override PartName="/ppt/media/image103.png" ContentType="image/png"/>
  <Override PartName="/ppt/media/image96.png" ContentType="image/png"/>
  <Override PartName="/ppt/media/image89.png" ContentType="image/png"/>
  <Override PartName="/ppt/media/image102.png" ContentType="image/png"/>
  <Override PartName="/ppt/media/image95.png" ContentType="image/png"/>
  <Override PartName="/ppt/media/image88.png" ContentType="image/png"/>
  <Override PartName="/ppt/media/image79.png" ContentType="image/png"/>
  <Override PartName="/ppt/media/image101.png" ContentType="image/png"/>
  <Override PartName="/ppt/media/image64.png" ContentType="image/png"/>
  <Override PartName="/ppt/media/image63.png" ContentType="image/png"/>
  <Override PartName="/ppt/media/image23.png" ContentType="image/png"/>
  <Override PartName="/ppt/media/image22.png" ContentType="image/png"/>
  <Override PartName="/ppt/media/image59.png" ContentType="image/png"/>
  <Override PartName="/ppt/media/image21.png" ContentType="image/png"/>
  <Override PartName="/ppt/media/image58.png" ContentType="image/png"/>
  <Override PartName="/ppt/media/image20.png" ContentType="image/png"/>
  <Override PartName="/ppt/media/image57.png" ContentType="image/png"/>
  <Override PartName="/ppt/media/image24.png" ContentType="image/png"/>
  <Override PartName="/ppt/media/image90.png" ContentType="image/png"/>
  <Override PartName="/ppt/media/image25.png" ContentType="image/png"/>
  <Override PartName="/ppt/media/image2.png" ContentType="image/png"/>
  <Override PartName="/ppt/media/image14.png" ContentType="image/png"/>
  <Override PartName="/ppt/media/image91.png" ContentType="image/png"/>
  <Override PartName="/ppt/media/image26.png" ContentType="image/png"/>
  <Override PartName="/ppt/media/image15.png" ContentType="image/png"/>
  <Override PartName="/ppt/media/image80.png" ContentType="image/png"/>
  <Override PartName="/ppt/media/image3.png" ContentType="image/png"/>
  <Override PartName="/ppt/media/image33.png" ContentType="image/png"/>
  <Override PartName="/ppt/media/image92.png" ContentType="image/png"/>
  <Override PartName="/ppt/media/image27.png" ContentType="image/png"/>
  <Override PartName="/ppt/media/image16.png" ContentType="image/png"/>
  <Override PartName="/ppt/media/image81.png" ContentType="image/png"/>
  <Override PartName="/ppt/media/image4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68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37D91-67F9-4901-9EEA-2AB6C6E333A5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E936E-0774-464D-8B62-BC5BBAB26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587BF-61F3-4712-AE67-34AEA7BB7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B5487F-BBE1-4483-8365-E9F52EDE0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EA11C3-A82D-41B8-A0E4-5E7488F0A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9C7F9B-E56D-4086-A626-8A902DE25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A6599D-2BB0-4438-B374-2AB9C3F8E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6F3A25-814F-4CD0-A6B5-954C6FA59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5E7F15-F4F2-43AF-9DCA-57AC13DDA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64B80C-7653-4C5F-B951-6A288E526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325899-1FD5-46EF-9610-5EEAAB723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4A302E-31F8-4A3E-9A42-B90A1E48D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0815F7-F86E-4364-B29B-D0C3292B2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20668-FC07-4CC5-840C-1F339689E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B60CB8-BAC9-48B5-81BA-39F606480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CA91E7-6250-41F4-B02C-4003BEDA6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D89EBA-378A-4DB7-B46F-41A5A9DBD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42ECFD-B501-40E8-89EE-BDB3F8BC0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41E928-3B04-4AE3-8A39-8E73A4F7A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04A9F4-1661-478E-9177-14BB0686A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E9DDF6-B585-4B3D-9912-192FA5A4A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4BBE1C-9B78-43F0-8129-2D0DC0B89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6A2FFB-C653-469B-B44B-8C11736DB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3AC1C3-FF9F-4CD1-86D3-B16A697B1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8C7EB-2A7A-4C0A-B062-6011D2942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F7299D-BFDB-4940-928C-08942D92A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13AA1C-9E61-4471-B1AE-A8B375074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897ABD-4595-4210-B4A4-32F0EFB51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457B05-9F4B-4003-B6F2-5C463B8E6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66B5B9-B5A1-483B-9401-D8708A0A1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F861E6-424D-425F-9095-0E0C7BD69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CD6260-1902-47AC-93FA-CAED0E141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AA4AA0-BAAA-48EB-BF48-1DA1F5AFB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BECE97-AF06-425C-9296-2A68E7CFA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BFF1CA-1A5A-4A4C-9E58-C5F76B811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BBDCE-6DA7-43B0-9244-AF40E14FF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741E41-030C-4D0D-BC03-97AD6215A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BAF3EC-7AD4-458C-8CFE-A09082FE9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362B13-C314-463B-BC20-4FBCA4DDD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DEFE38-D17F-4678-961A-B519848AF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986F07-E44D-4798-913C-3AFE27C69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D4AD59-D4DD-42F7-96CE-223985711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FAD816-0B4B-4F2D-A2D5-82CF08A2F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A110C0-E77B-4B96-9645-7D87A3F5A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0DCABC-F7E1-4D20-B20F-CDCAA80FE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537010-50CC-4061-9E89-0A172256D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AC349-2C6D-4AED-9FA7-BBF561896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11EF28-94EA-416E-BAC8-87B8CEB01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7DDAF5-5490-44F8-8814-C6128BB5B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87E55D-5399-4E6C-9460-9E4BC9EB0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37B4F9-BA0B-46D3-BED1-03F6E0FDB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D5E971-DBEE-4E3B-A285-C44BA2B5F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1B9BDBC-4DD6-4503-BC17-C1D53B3ED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43F2856-7AFA-4D9B-B758-60AA6E182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951D082-0CB1-4A9D-B2C0-8A095CE2F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2A35A9B-04D2-40DB-A2C4-E1FB39953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7406724-B83E-4F71-A058-70B905E18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B43AE-BB21-4183-93E9-792D1CCF1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A2F1EA3-0585-47D8-8B69-9DC31E25D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FFD4076-21FD-42D5-841B-51B45F448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7F2265B-5CAF-484B-8567-56D042FEE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261DDDC-7E91-45F6-91D1-A69F43FF0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0E4080A-A1BB-45E8-9209-9F7E639F6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5E1C225-5E7A-4C3E-96E3-1F23FCCBA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805CC1A-7FC7-4955-B766-9B2E11A88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0930F-B771-40BD-B4CF-D8730E28E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B455A-DADC-401D-9314-85C4A1972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4C8D1-849B-4F0A-8D99-AB3E3E282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83664-1A11-44DE-AE38-56A46F76E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F4F9A-709A-4E95-AF2F-6D0E3C1B0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934D4-038E-4E7F-A276-2F1E4583A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BAB98-9B34-4C16-A01F-A64672943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BDD95-C929-4CE1-99C7-2A612375D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0CC64-0808-4A15-9111-F992A5341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02326-A31C-4F69-B1B6-FA1B015F0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142F03-22FB-4652-AE54-2639469A4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EFB6C8-0449-4A3E-AE82-1692EBE80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A74B23-A1DD-4428-80B4-6ACABFA3A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BFB1EF-2233-4901-B82F-1F9091B6A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DD6A6F-B61C-4CC5-9139-1C432851B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1299D-8A2F-4A37-91D4-14ED8E4A7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A4A1B5-5B1C-4DDC-84C6-717D1F30A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B75437-2B2C-4538-A566-D8E93EEFC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3979EF-35F6-424C-B498-2F86204FD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CE6743-AF3E-4545-8363-39BD13FF7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9DBB72-63C9-47FD-8D1A-E69A0BCD2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C7563B-3E59-4294-B4CE-FF5ED4FFF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8CE8A2-A691-4A6B-B4D6-9E451283F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423D10-AD90-4B12-9B9B-1A6B147B0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C69606-67A1-4211-8095-3BF778E70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F6FA34-7451-48C7-A7EA-1C051AE0E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342A1-3A5E-4D87-93AB-A05E2DF8A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9951DD-E024-4C5A-851F-38618BF44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17B1B0-9F5F-425F-B190-007EA2CC2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5B0652-ADB2-4795-9622-66AD2C945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441441-F7BE-4884-9237-F092744B7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619C85-9C0A-453B-AA67-44F900BBC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C7FD86-79FA-4FD5-A9B5-037FAECD1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69254B-5B75-45C0-A3E9-3E1570B7F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FB3053-71A1-40C0-8163-A668E7A35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1A53A5-2719-4866-AB11-E412671A1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8814C0-73AB-4684-909B-ABA24C124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A2536-FCEE-439A-AC29-F67FD8269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D2F1A3-CF1B-40F3-875C-1018B11E3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22CC18-EDB1-42F6-B141-D79795C46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FE7469-DB16-496B-9B58-2F482CFD0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152859-E1F6-4C9C-A4A1-C094DDE36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4BB4E1-2093-435A-93D8-8494535B5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18063D-0883-419C-8C40-80C42E74E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D72EB9-D4EE-4FDE-A475-1752526B1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4525BF-B452-4121-B824-9F4388C61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D2B02A-7409-44EE-B138-16CFE12E9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876FDF-0FDA-401A-94FE-592313E9D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E7732-63C0-4548-B653-4EF666330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D61739-0CDB-412F-9735-CB8AFAB73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33DF0C8-AC5D-473F-99AB-5D10F985C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BD74AE0-E0D9-4BFF-8668-181A4DD96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95EC53F-9C51-411D-8B3F-2E7309D8C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DEE9749-E124-4CA0-B43B-55385BFB3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FFCE269-347E-414B-AC02-9B531B18C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C8C9A92-3B3F-4417-84A3-57009C5B9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BC2B8B4-B6E1-436C-9F88-693C07084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251AE78-AE75-4ECC-BE93-E0A90F582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7F0514C-B7D4-4884-948F-B6573B6ED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8767C-2F65-4DCC-95F5-354C45B6E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D4F493D-8DD6-44DE-B463-69CA22990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AB6EC31-FA6B-49B4-9F27-6AB37A0DA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4CA97DF-F7E7-4E32-B415-72804350C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18B558-FF94-4AC5-BE7A-CBCB48F37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76B1EC-43D8-4D5C-8DF0-1564E2C47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DF81D6-8E51-4E72-934A-6D2237C3E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FEE5E0-666A-43C8-AB9E-428A7688F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5A6DA7-ED5E-446D-A2FE-7528189B5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E22528-333F-42A3-813D-27B00AED6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CC97A1-290F-4AF1-BC8D-9E1B9B5CF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FE4EF-1E59-42C2-BB4C-6A94F6A1A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7D3B04-2036-46B3-A08F-9BE5FA6E2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278E86-68EC-4401-8C51-857844179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AD8334-CDF6-4C26-9959-D675C5427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7E5A95-6A10-40A5-9A2F-75D356B7F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A2CAA8-82CE-41E4-9624-C09B43539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CE5264-1CEA-4720-B3C6-9B7DF8C69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058699-040A-42E9-A29C-DAA3A2B17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C5B269-51B4-45EA-9D55-66D159578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CBDA2F-EBED-4CFD-97D7-3C8A64775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E9405D-E537-43B1-9AD1-E030E929C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0DE82-1919-47F4-BB3C-84B626533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E786DA-746D-4ED0-8B04-E6B28E9A8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579241-33D5-4D85-85E4-737B23C42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5FE130-4F90-48A9-ABE5-75C298704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952924-27C8-4BDD-8F1D-5B55D8EFE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37C142-853B-4E2B-BE6C-8B2AE5980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9124B2-F7D4-4563-AF8B-B82C65A71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B630A2-A1DB-453F-BD6B-4ADF2C034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FC78EB-66B5-4CAC-987E-857A2E01F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1AB5FA-605A-4EA6-8912-194009B43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C17902-61C3-4C61-8255-C699B3C09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23813-9496-42B3-B42D-F116E2E7AEF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9A30D-0AB0-443C-8195-D37139C2D98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D67FD-5252-4D7E-BD21-8E42DB9E967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FE467-C6CC-464E-847E-0A24803E204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9E598-79E5-4693-9D58-51AB8DE7C70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EE4C5-2BBC-4F84-940D-EFB1F61CAE1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25065-610E-4B66-8E4B-21FB3F6B6FE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3BA7A-945E-44D1-A694-A37DC3D53B6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F10D1-2935-4FE4-A611-FF8C3FA85F4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EF983-2B17-49FA-B7F3-6CF3AC72EC4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C6F3C-3935-4C39-9A86-1ABF7EBDC7F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8375C-AE9F-411C-9766-4234C61279D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8F3EA-1730-4D7C-B5A6-13EC56A59CF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7.png"/><Relationship Id="rId3" Type="http://schemas.openxmlformats.org/officeDocument/2006/relationships/image" Target="../media/image14.png"/><Relationship Id="rId4" Type="http://schemas.openxmlformats.org/officeDocument/2006/relationships/image" Target="../media/image43.png"/><Relationship Id="rId5" Type="http://schemas.openxmlformats.org/officeDocument/2006/relationships/image" Target="../media/image44.png"/><Relationship Id="rId6" Type="http://schemas.openxmlformats.org/officeDocument/2006/relationships/image" Target="../media/image29.png"/><Relationship Id="rId7" Type="http://schemas.openxmlformats.org/officeDocument/2006/relationships/image" Target="../media/image45.png"/><Relationship Id="rId8" Type="http://schemas.openxmlformats.org/officeDocument/2006/relationships/image" Target="../media/image46.png"/><Relationship Id="rId9" Type="http://schemas.openxmlformats.org/officeDocument/2006/relationships/image" Target="../media/image47.png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7.png"/><Relationship Id="rId3" Type="http://schemas.openxmlformats.org/officeDocument/2006/relationships/image" Target="../media/image14.png"/><Relationship Id="rId4" Type="http://schemas.openxmlformats.org/officeDocument/2006/relationships/image" Target="../media/image29.png"/><Relationship Id="rId5" Type="http://schemas.openxmlformats.org/officeDocument/2006/relationships/image" Target="../media/image48.png"/><Relationship Id="rId6" Type="http://schemas.openxmlformats.org/officeDocument/2006/relationships/image" Target="../media/image49.png"/><Relationship Id="rId7" Type="http://schemas.openxmlformats.org/officeDocument/2006/relationships/image" Target="../media/image50.png"/><Relationship Id="rId8" Type="http://schemas.openxmlformats.org/officeDocument/2006/relationships/image" Target="../media/image6.png"/><Relationship Id="rId9" Type="http://schemas.openxmlformats.org/officeDocument/2006/relationships/image" Target="../media/image29.png"/><Relationship Id="rId10" Type="http://schemas.openxmlformats.org/officeDocument/2006/relationships/image" Target="../media/image51.png"/><Relationship Id="rId11" Type="http://schemas.openxmlformats.org/officeDocument/2006/relationships/image" Target="../media/image52.png"/><Relationship Id="rId1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7.png"/><Relationship Id="rId3" Type="http://schemas.openxmlformats.org/officeDocument/2006/relationships/image" Target="../media/image14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image" Target="../media/image6.png"/><Relationship Id="rId7" Type="http://schemas.openxmlformats.org/officeDocument/2006/relationships/image" Target="../media/image29.png"/><Relationship Id="rId8" Type="http://schemas.openxmlformats.org/officeDocument/2006/relationships/image" Target="../media/image55.png"/><Relationship Id="rId9" Type="http://schemas.openxmlformats.org/officeDocument/2006/relationships/image" Target="../media/image29.png"/><Relationship Id="rId10" Type="http://schemas.openxmlformats.org/officeDocument/2006/relationships/image" Target="../media/image56.png"/><Relationship Id="rId1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4.png"/><Relationship Id="rId5" Type="http://schemas.openxmlformats.org/officeDocument/2006/relationships/image" Target="../media/image7.png"/><Relationship Id="rId6" Type="http://schemas.openxmlformats.org/officeDocument/2006/relationships/image" Target="../media/image9.png"/><Relationship Id="rId7" Type="http://schemas.openxmlformats.org/officeDocument/2006/relationships/image" Target="../media/image58.png"/><Relationship Id="rId8" Type="http://schemas.openxmlformats.org/officeDocument/2006/relationships/image" Target="../media/image59.png"/><Relationship Id="rId9" Type="http://schemas.openxmlformats.org/officeDocument/2006/relationships/image" Target="../media/image60.png"/><Relationship Id="rId10" Type="http://schemas.openxmlformats.org/officeDocument/2006/relationships/image" Target="../media/image61.png"/><Relationship Id="rId11" Type="http://schemas.openxmlformats.org/officeDocument/2006/relationships/image" Target="../media/image62.png"/><Relationship Id="rId12" Type="http://schemas.openxmlformats.org/officeDocument/2006/relationships/image" Target="../media/image63.png"/><Relationship Id="rId1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image" Target="../media/image14.png"/><Relationship Id="rId7" Type="http://schemas.openxmlformats.org/officeDocument/2006/relationships/image" Target="../media/image64.png"/><Relationship Id="rId8" Type="http://schemas.openxmlformats.org/officeDocument/2006/relationships/image" Target="../media/image65.png"/><Relationship Id="rId9" Type="http://schemas.openxmlformats.org/officeDocument/2006/relationships/image" Target="../media/image66.png"/><Relationship Id="rId10" Type="http://schemas.openxmlformats.org/officeDocument/2006/relationships/image" Target="../media/image67.png"/><Relationship Id="rId11" Type="http://schemas.openxmlformats.org/officeDocument/2006/relationships/image" Target="../media/image68.png"/><Relationship Id="rId1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69.png"/><Relationship Id="rId5" Type="http://schemas.openxmlformats.org/officeDocument/2006/relationships/image" Target="../media/image70.png"/><Relationship Id="rId6" Type="http://schemas.openxmlformats.org/officeDocument/2006/relationships/image" Target="../media/image71.png"/><Relationship Id="rId7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2.png"/><Relationship Id="rId2" Type="http://schemas.openxmlformats.org/officeDocument/2006/relationships/image" Target="../media/image73.png"/><Relationship Id="rId3" Type="http://schemas.openxmlformats.org/officeDocument/2006/relationships/image" Target="../media/image7.png"/><Relationship Id="rId4" Type="http://schemas.openxmlformats.org/officeDocument/2006/relationships/image" Target="../media/image14.png"/><Relationship Id="rId5" Type="http://schemas.openxmlformats.org/officeDocument/2006/relationships/image" Target="../media/image74.png"/><Relationship Id="rId6" Type="http://schemas.openxmlformats.org/officeDocument/2006/relationships/image" Target="../media/image75.png"/><Relationship Id="rId7" Type="http://schemas.openxmlformats.org/officeDocument/2006/relationships/image" Target="../media/image7.png"/><Relationship Id="rId8" Type="http://schemas.openxmlformats.org/officeDocument/2006/relationships/image" Target="../media/image14.png"/><Relationship Id="rId9" Type="http://schemas.openxmlformats.org/officeDocument/2006/relationships/image" Target="../media/image76.png"/><Relationship Id="rId10" Type="http://schemas.openxmlformats.org/officeDocument/2006/relationships/image" Target="../media/image77.png"/><Relationship Id="rId11" Type="http://schemas.openxmlformats.org/officeDocument/2006/relationships/image" Target="../media/image78.png"/><Relationship Id="rId1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0.png"/><Relationship Id="rId5" Type="http://schemas.openxmlformats.org/officeDocument/2006/relationships/image" Target="../media/image81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2.png"/><Relationship Id="rId9" Type="http://schemas.openxmlformats.org/officeDocument/2006/relationships/image" Target="../media/image83.png"/><Relationship Id="rId10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4.png"/><Relationship Id="rId5" Type="http://schemas.openxmlformats.org/officeDocument/2006/relationships/image" Target="../media/image8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6.png"/><Relationship Id="rId9" Type="http://schemas.openxmlformats.org/officeDocument/2006/relationships/image" Target="../media/image87.png"/><Relationship Id="rId10" Type="http://schemas.openxmlformats.org/officeDocument/2006/relationships/image" Target="../media/image88.png"/><Relationship Id="rId11" Type="http://schemas.openxmlformats.org/officeDocument/2006/relationships/image" Target="../media/image89.png"/><Relationship Id="rId1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90.png"/><Relationship Id="rId5" Type="http://schemas.openxmlformats.org/officeDocument/2006/relationships/image" Target="../media/image91.png"/><Relationship Id="rId6" Type="http://schemas.openxmlformats.org/officeDocument/2006/relationships/image" Target="../media/image29.png"/><Relationship Id="rId7" Type="http://schemas.openxmlformats.org/officeDocument/2006/relationships/image" Target="../media/image92.png"/><Relationship Id="rId8" Type="http://schemas.openxmlformats.org/officeDocument/2006/relationships/image" Target="../media/image93.png"/><Relationship Id="rId9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7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image" Target="../media/image94.png"/><Relationship Id="rId3" Type="http://schemas.openxmlformats.org/officeDocument/2006/relationships/image" Target="../media/image95.png"/><Relationship Id="rId4" Type="http://schemas.openxmlformats.org/officeDocument/2006/relationships/image" Target="../media/image96.png"/><Relationship Id="rId5" Type="http://schemas.openxmlformats.org/officeDocument/2006/relationships/image" Target="../media/image97.png"/><Relationship Id="rId6" Type="http://schemas.openxmlformats.org/officeDocument/2006/relationships/image" Target="../media/image98.png"/><Relationship Id="rId7" Type="http://schemas.openxmlformats.org/officeDocument/2006/relationships/image" Target="../media/image99.png"/><Relationship Id="rId8" Type="http://schemas.openxmlformats.org/officeDocument/2006/relationships/image" Target="../media/image100.png"/><Relationship Id="rId9" Type="http://schemas.openxmlformats.org/officeDocument/2006/relationships/image" Target="../media/image101.png"/><Relationship Id="rId10" Type="http://schemas.openxmlformats.org/officeDocument/2006/relationships/image" Target="../media/image102.png"/><Relationship Id="rId11" Type="http://schemas.openxmlformats.org/officeDocument/2006/relationships/image" Target="../media/image6.png"/><Relationship Id="rId12" Type="http://schemas.openxmlformats.org/officeDocument/2006/relationships/image" Target="../media/image7.png"/><Relationship Id="rId13" Type="http://schemas.openxmlformats.org/officeDocument/2006/relationships/image" Target="../media/image103.png"/><Relationship Id="rId14" Type="http://schemas.openxmlformats.org/officeDocument/2006/relationships/image" Target="../media/image104.png"/><Relationship Id="rId15" Type="http://schemas.openxmlformats.org/officeDocument/2006/relationships/image" Target="../media/image105.png"/><Relationship Id="rId16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7.png"/><Relationship Id="rId7" Type="http://schemas.openxmlformats.org/officeDocument/2006/relationships/image" Target="../media/image7.png"/><Relationship Id="rId8" Type="http://schemas.openxmlformats.org/officeDocument/2006/relationships/image" Target="../media/image9.png"/><Relationship Id="rId9" Type="http://schemas.openxmlformats.org/officeDocument/2006/relationships/image" Target="../media/image108.png"/><Relationship Id="rId10" Type="http://schemas.openxmlformats.org/officeDocument/2006/relationships/image" Target="../media/image108.png"/><Relationship Id="rId11" Type="http://schemas.openxmlformats.org/officeDocument/2006/relationships/image" Target="../media/image108.png"/><Relationship Id="rId1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14.png"/><Relationship Id="rId6" Type="http://schemas.openxmlformats.org/officeDocument/2006/relationships/image" Target="../media/image7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image" Target="../media/image17.png"/><Relationship Id="rId11" Type="http://schemas.openxmlformats.org/officeDocument/2006/relationships/image" Target="../media/image18.png"/><Relationship Id="rId12" Type="http://schemas.openxmlformats.org/officeDocument/2006/relationships/image" Target="../media/image15.png"/><Relationship Id="rId13" Type="http://schemas.openxmlformats.org/officeDocument/2006/relationships/image" Target="../media/image19.png"/><Relationship Id="rId14" Type="http://schemas.openxmlformats.org/officeDocument/2006/relationships/image" Target="../media/image19.png"/><Relationship Id="rId15" Type="http://schemas.openxmlformats.org/officeDocument/2006/relationships/image" Target="../media/image19.png"/><Relationship Id="rId16" Type="http://schemas.openxmlformats.org/officeDocument/2006/relationships/image" Target="../media/image20.png"/><Relationship Id="rId17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4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4.pn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image" Target="../media/image26.png"/><Relationship Id="rId8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4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4.png"/><Relationship Id="rId5" Type="http://schemas.openxmlformats.org/officeDocument/2006/relationships/image" Target="../media/image29.png"/><Relationship Id="rId6" Type="http://schemas.openxmlformats.org/officeDocument/2006/relationships/image" Target="../media/image30.png"/><Relationship Id="rId7" Type="http://schemas.openxmlformats.org/officeDocument/2006/relationships/image" Target="../media/image31.png"/><Relationship Id="rId8" Type="http://schemas.openxmlformats.org/officeDocument/2006/relationships/image" Target="../media/image32.png"/><Relationship Id="rId9" Type="http://schemas.openxmlformats.org/officeDocument/2006/relationships/image" Target="../media/image29.png"/><Relationship Id="rId10" Type="http://schemas.openxmlformats.org/officeDocument/2006/relationships/image" Target="../media/image33.png"/><Relationship Id="rId1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7.png"/><Relationship Id="rId7" Type="http://schemas.openxmlformats.org/officeDocument/2006/relationships/image" Target="../media/image14.png"/><Relationship Id="rId8" Type="http://schemas.openxmlformats.org/officeDocument/2006/relationships/image" Target="../media/image36.png"/><Relationship Id="rId9" Type="http://schemas.openxmlformats.org/officeDocument/2006/relationships/image" Target="../media/image37.png"/><Relationship Id="rId10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7.png"/><Relationship Id="rId3" Type="http://schemas.openxmlformats.org/officeDocument/2006/relationships/image" Target="../media/image14.png"/><Relationship Id="rId4" Type="http://schemas.openxmlformats.org/officeDocument/2006/relationships/image" Target="../media/image38.png"/><Relationship Id="rId5" Type="http://schemas.openxmlformats.org/officeDocument/2006/relationships/image" Target="../media/image39.png"/><Relationship Id="rId6" Type="http://schemas.openxmlformats.org/officeDocument/2006/relationships/image" Target="../media/image40.png"/><Relationship Id="rId7" Type="http://schemas.openxmlformats.org/officeDocument/2006/relationships/image" Target="../media/image41.png"/><Relationship Id="rId8" Type="http://schemas.openxmlformats.org/officeDocument/2006/relationships/image" Target="../media/image42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317520"/>
            <a:ext cx="3500640" cy="90180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55"/>
          <p:cNvGrpSpPr/>
          <p:nvPr/>
        </p:nvGrpSpPr>
        <p:grpSpPr>
          <a:xfrm>
            <a:off x="357120" y="2357280"/>
            <a:ext cx="3142800" cy="3357000"/>
            <a:chOff x="357120" y="2357280"/>
            <a:chExt cx="3142800" cy="3357000"/>
          </a:xfrm>
        </p:grpSpPr>
        <p:grpSp>
          <p:nvGrpSpPr>
            <p:cNvPr id="768" name="Group 92"/>
            <p:cNvGrpSpPr/>
            <p:nvPr/>
          </p:nvGrpSpPr>
          <p:grpSpPr>
            <a:xfrm>
              <a:off x="357120" y="2357280"/>
              <a:ext cx="3142800" cy="3357000"/>
              <a:chOff x="357120" y="2357280"/>
              <a:chExt cx="3142800" cy="3357000"/>
            </a:xfrm>
          </p:grpSpPr>
          <p:sp>
            <p:nvSpPr>
              <p:cNvPr id="769" name="AutoShape 93"/>
              <p:cNvSpPr/>
              <p:nvPr/>
            </p:nvSpPr>
            <p:spPr>
              <a:xfrm>
                <a:off x="357120" y="2357280"/>
                <a:ext cx="3142800" cy="3357000"/>
              </a:xfrm>
              <a:custGeom>
                <a:avLst/>
                <a:gdLst>
                  <a:gd name="textAreaLeft" fmla="*/ 153360 w 3142800"/>
                  <a:gd name="textAreaRight" fmla="*/ 2989440 w 3142800"/>
                  <a:gd name="textAreaTop" fmla="*/ 153360 h 3357000"/>
                  <a:gd name="textAreaBottom" fmla="*/ 3203640 h 3357000"/>
                </a:gdLst>
                <a:ahLst/>
                <a:rect l="textAreaLeft" t="textAreaTop" r="textAreaRight" b="textAreaBottom"/>
                <a:pathLst>
                  <a:path w="21600" h="23072">
                    <a:moveTo>
                      <a:pt x="3600" y="0"/>
                    </a:moveTo>
                    <a:arcTo wR="3600" hR="3600" stAng="16200000" swAng="-5400000"/>
                    <a:lnTo>
                      <a:pt x="0" y="19472"/>
                    </a:lnTo>
                    <a:arcTo wR="3600" hR="3600" stAng="10800000" swAng="-5400000"/>
                    <a:lnTo>
                      <a:pt x="18000" y="2307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002060"/>
              </a:solidFill>
              <a:ln w="9360">
                <a:solidFill>
                  <a:srgbClr val="a04da3"/>
                </a:solidFill>
                <a:miter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Rectangle 94"/>
              <p:cNvSpPr/>
              <p:nvPr/>
            </p:nvSpPr>
            <p:spPr>
              <a:xfrm>
                <a:off x="357120" y="2357280"/>
                <a:ext cx="582120" cy="1566720"/>
              </a:xfrm>
              <a:prstGeom prst="rect">
                <a:avLst/>
              </a:prstGeom>
              <a:solidFill>
                <a:srgbClr val="002060"/>
              </a:solidFill>
              <a:ln w="0">
                <a:noFill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1" name="Group 95"/>
            <p:cNvGrpSpPr/>
            <p:nvPr/>
          </p:nvGrpSpPr>
          <p:grpSpPr>
            <a:xfrm>
              <a:off x="429840" y="2441160"/>
              <a:ext cx="2999160" cy="3217680"/>
              <a:chOff x="429840" y="2441160"/>
              <a:chExt cx="2999160" cy="3217680"/>
            </a:xfrm>
          </p:grpSpPr>
          <p:sp>
            <p:nvSpPr>
              <p:cNvPr id="772" name="AutoShape 96"/>
              <p:cNvSpPr/>
              <p:nvPr/>
            </p:nvSpPr>
            <p:spPr>
              <a:xfrm>
                <a:off x="429840" y="2441160"/>
                <a:ext cx="2999160" cy="3217680"/>
              </a:xfrm>
              <a:custGeom>
                <a:avLst/>
                <a:gdLst>
                  <a:gd name="textAreaLeft" fmla="*/ 146160 w 2999160"/>
                  <a:gd name="textAreaRight" fmla="*/ 2853000 w 2999160"/>
                  <a:gd name="textAreaTop" fmla="*/ 146160 h 3217680"/>
                  <a:gd name="textAreaBottom" fmla="*/ 3071520 h 3217680"/>
                </a:gdLst>
                <a:ahLst/>
                <a:rect l="textAreaLeft" t="textAreaTop" r="textAreaRight" b="textAreaBottom"/>
                <a:pathLst>
                  <a:path w="21600" h="23174">
                    <a:moveTo>
                      <a:pt x="3600" y="0"/>
                    </a:moveTo>
                    <a:arcTo wR="3600" hR="3600" stAng="16200000" swAng="-5400000"/>
                    <a:lnTo>
                      <a:pt x="0" y="19574"/>
                    </a:lnTo>
                    <a:arcTo wR="3600" hR="3600" stAng="10800000" swAng="-5400000"/>
                    <a:lnTo>
                      <a:pt x="18000" y="2317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Rectangle 97"/>
              <p:cNvSpPr/>
              <p:nvPr/>
            </p:nvSpPr>
            <p:spPr>
              <a:xfrm>
                <a:off x="429840" y="2441160"/>
                <a:ext cx="555840" cy="1487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4" name="Line 98"/>
            <p:cNvSpPr/>
            <p:nvPr/>
          </p:nvSpPr>
          <p:spPr>
            <a:xfrm>
              <a:off x="571320" y="3143160"/>
              <a:ext cx="2691000" cy="0"/>
            </a:xfrm>
            <a:prstGeom prst="line">
              <a:avLst/>
            </a:prstGeom>
            <a:ln w="12600">
              <a:solidFill>
                <a:srgbClr val="783a7a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75" name="직사각형 5" descr=""/>
          <p:cNvPicPr/>
          <p:nvPr/>
        </p:nvPicPr>
        <p:blipFill>
          <a:blip r:embed="rId2"/>
          <a:stretch/>
        </p:blipFill>
        <p:spPr>
          <a:xfrm>
            <a:off x="401760" y="2401920"/>
            <a:ext cx="2176200" cy="1054080"/>
          </a:xfrm>
          <a:prstGeom prst="rect">
            <a:avLst/>
          </a:prstGeom>
          <a:ln w="0">
            <a:noFill/>
          </a:ln>
        </p:spPr>
      </p:pic>
      <p:pic>
        <p:nvPicPr>
          <p:cNvPr id="776" name="직사각형 6" descr=""/>
          <p:cNvPicPr/>
          <p:nvPr/>
        </p:nvPicPr>
        <p:blipFill>
          <a:blip r:embed="rId3"/>
          <a:stretch/>
        </p:blipFill>
        <p:spPr>
          <a:xfrm>
            <a:off x="328680" y="3316320"/>
            <a:ext cx="3176640" cy="1719360"/>
          </a:xfrm>
          <a:prstGeom prst="rect">
            <a:avLst/>
          </a:prstGeom>
          <a:ln w="0">
            <a:noFill/>
          </a:ln>
        </p:spPr>
      </p:pic>
      <p:sp>
        <p:nvSpPr>
          <p:cNvPr id="777" name="직사각형 45"/>
          <p:cNvSpPr/>
          <p:nvPr/>
        </p:nvSpPr>
        <p:spPr>
          <a:xfrm>
            <a:off x="5063760" y="1857240"/>
            <a:ext cx="221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인지 심리학의 출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직사각형 45"/>
          <p:cNvSpPr/>
          <p:nvPr/>
        </p:nvSpPr>
        <p:spPr>
          <a:xfrm>
            <a:off x="4943160" y="2500200"/>
            <a:ext cx="168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정보처리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0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BFEA5-0B08-4AF6-8BF7-F9B73BFA906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직사각형 45"/>
          <p:cNvSpPr/>
          <p:nvPr/>
        </p:nvSpPr>
        <p:spPr>
          <a:xfrm>
            <a:off x="5365440" y="3143160"/>
            <a:ext cx="294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정보처리이론의 대안적 모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직사각형 45"/>
          <p:cNvSpPr/>
          <p:nvPr/>
        </p:nvSpPr>
        <p:spPr>
          <a:xfrm>
            <a:off x="4809240" y="3786120"/>
            <a:ext cx="132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메타인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직사각형 45"/>
          <p:cNvSpPr/>
          <p:nvPr/>
        </p:nvSpPr>
        <p:spPr>
          <a:xfrm>
            <a:off x="4807800" y="5072040"/>
            <a:ext cx="132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6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학습전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직사각형 45"/>
          <p:cNvSpPr/>
          <p:nvPr/>
        </p:nvSpPr>
        <p:spPr>
          <a:xfrm>
            <a:off x="4681800" y="4467240"/>
            <a:ext cx="95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5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망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26" name="그룹 173"/>
          <p:cNvGrpSpPr/>
          <p:nvPr/>
        </p:nvGrpSpPr>
        <p:grpSpPr>
          <a:xfrm>
            <a:off x="285840" y="1928880"/>
            <a:ext cx="8572320" cy="4357800"/>
            <a:chOff x="285840" y="1928880"/>
            <a:chExt cx="8572320" cy="4357800"/>
          </a:xfrm>
        </p:grpSpPr>
        <p:grpSp>
          <p:nvGrpSpPr>
            <p:cNvPr id="1127" name="그룹 63"/>
            <p:cNvGrpSpPr/>
            <p:nvPr/>
          </p:nvGrpSpPr>
          <p:grpSpPr>
            <a:xfrm>
              <a:off x="285840" y="1928880"/>
              <a:ext cx="8572320" cy="4357800"/>
              <a:chOff x="285840" y="1928880"/>
              <a:chExt cx="8572320" cy="4357800"/>
            </a:xfrm>
          </p:grpSpPr>
          <p:grpSp>
            <p:nvGrpSpPr>
              <p:cNvPr id="1128" name="그룹 91"/>
              <p:cNvGrpSpPr/>
              <p:nvPr/>
            </p:nvGrpSpPr>
            <p:grpSpPr>
              <a:xfrm>
                <a:off x="285840" y="2131920"/>
                <a:ext cx="8572320" cy="4154760"/>
                <a:chOff x="285840" y="2131920"/>
                <a:chExt cx="8572320" cy="4154760"/>
              </a:xfrm>
            </p:grpSpPr>
            <p:pic>
              <p:nvPicPr>
                <p:cNvPr id="1129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85840" y="2131920"/>
                  <a:ext cx="8501040" cy="41547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30" name="직사각형 28"/>
                <p:cNvSpPr/>
                <p:nvPr/>
              </p:nvSpPr>
              <p:spPr>
                <a:xfrm>
                  <a:off x="1143000" y="2428560"/>
                  <a:ext cx="7715160" cy="20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새로운 정보를 잘 기억하기 위해 그 정보를 유의미하게 하거나 장기기억에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   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저장되어 있는 정보에 관련 짓는 인지전략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부호화 방식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31" name="그룹 44"/>
              <p:cNvGrpSpPr/>
              <p:nvPr/>
            </p:nvGrpSpPr>
            <p:grpSpPr>
              <a:xfrm>
                <a:off x="928440" y="1928880"/>
                <a:ext cx="7574040" cy="505440"/>
                <a:chOff x="928440" y="1928880"/>
                <a:chExt cx="7574040" cy="505440"/>
              </a:xfrm>
            </p:grpSpPr>
            <p:grpSp>
              <p:nvGrpSpPr>
                <p:cNvPr id="1132" name="그룹 91"/>
                <p:cNvGrpSpPr/>
                <p:nvPr/>
              </p:nvGrpSpPr>
              <p:grpSpPr>
                <a:xfrm>
                  <a:off x="928440" y="1928880"/>
                  <a:ext cx="2823840" cy="505440"/>
                  <a:chOff x="928440" y="1928880"/>
                  <a:chExt cx="2823840" cy="505440"/>
                </a:xfrm>
              </p:grpSpPr>
              <p:grpSp>
                <p:nvGrpSpPr>
                  <p:cNvPr id="1133" name="그룹 34"/>
                  <p:cNvGrpSpPr/>
                  <p:nvPr/>
                </p:nvGrpSpPr>
                <p:grpSpPr>
                  <a:xfrm>
                    <a:off x="928440" y="2032920"/>
                    <a:ext cx="349200" cy="343800"/>
                    <a:chOff x="928440" y="2032920"/>
                    <a:chExt cx="349200" cy="343800"/>
                  </a:xfrm>
                </p:grpSpPr>
                <p:pic>
                  <p:nvPicPr>
                    <p:cNvPr id="1134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928440" y="2041920"/>
                      <a:ext cx="349200" cy="334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35" name="TextBox 36"/>
                    <p:cNvSpPr/>
                    <p:nvPr/>
                  </p:nvSpPr>
                  <p:spPr>
                    <a:xfrm>
                      <a:off x="957960" y="20329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36" name="직사각형 24"/>
                  <p:cNvSpPr/>
                  <p:nvPr/>
                </p:nvSpPr>
                <p:spPr>
                  <a:xfrm>
                    <a:off x="1449000" y="1928880"/>
                    <a:ext cx="2303280" cy="505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부호화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약호화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, 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encoding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37" name="직선 연결선 22"/>
                <p:cNvSpPr/>
                <p:nvPr/>
              </p:nvSpPr>
              <p:spPr>
                <a:xfrm flipV="1">
                  <a:off x="6286320" y="220140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38" name="타원 15"/>
            <p:cNvGrpSpPr/>
            <p:nvPr/>
          </p:nvGrpSpPr>
          <p:grpSpPr>
            <a:xfrm>
              <a:off x="932760" y="2584800"/>
              <a:ext cx="225360" cy="231480"/>
              <a:chOff x="932760" y="2584800"/>
              <a:chExt cx="225360" cy="231480"/>
            </a:xfrm>
          </p:grpSpPr>
          <p:pic>
            <p:nvPicPr>
              <p:cNvPr id="1139" name="타원 15" descr=""/>
              <p:cNvPicPr/>
              <p:nvPr/>
            </p:nvPicPr>
            <p:blipFill>
              <a:blip r:embed="rId4"/>
              <a:stretch/>
            </p:blipFill>
            <p:spPr>
              <a:xfrm>
                <a:off x="932760" y="2584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0" name=""/>
              <p:cNvSpPr/>
              <p:nvPr/>
            </p:nvSpPr>
            <p:spPr>
              <a:xfrm rot="10800000">
                <a:off x="1014480" y="2643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41" name="타원 29"/>
          <p:cNvGrpSpPr/>
          <p:nvPr/>
        </p:nvGrpSpPr>
        <p:grpSpPr>
          <a:xfrm>
            <a:off x="933480" y="3718080"/>
            <a:ext cx="225360" cy="231480"/>
            <a:chOff x="933480" y="3718080"/>
            <a:chExt cx="225360" cy="231480"/>
          </a:xfrm>
        </p:grpSpPr>
        <p:pic>
          <p:nvPicPr>
            <p:cNvPr id="1142" name="타원 29" descr=""/>
            <p:cNvPicPr/>
            <p:nvPr/>
          </p:nvPicPr>
          <p:blipFill>
            <a:blip r:embed="rId5"/>
            <a:stretch/>
          </p:blipFill>
          <p:spPr>
            <a:xfrm>
              <a:off x="933480" y="3718080"/>
              <a:ext cx="225360" cy="23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3" name=""/>
            <p:cNvSpPr/>
            <p:nvPr/>
          </p:nvSpPr>
          <p:spPr>
            <a:xfrm rot="10800000">
              <a:off x="1014480" y="37735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4" name="그룹 30"/>
          <p:cNvGrpSpPr/>
          <p:nvPr/>
        </p:nvGrpSpPr>
        <p:grpSpPr>
          <a:xfrm>
            <a:off x="993600" y="4143240"/>
            <a:ext cx="7777440" cy="1996920"/>
            <a:chOff x="993600" y="4143240"/>
            <a:chExt cx="7777440" cy="1996920"/>
          </a:xfrm>
        </p:grpSpPr>
        <p:grpSp>
          <p:nvGrpSpPr>
            <p:cNvPr id="1145" name="그룹 142"/>
            <p:cNvGrpSpPr/>
            <p:nvPr/>
          </p:nvGrpSpPr>
          <p:grpSpPr>
            <a:xfrm>
              <a:off x="993600" y="4143240"/>
              <a:ext cx="2200680" cy="505440"/>
              <a:chOff x="993600" y="4143240"/>
              <a:chExt cx="2200680" cy="505440"/>
            </a:xfrm>
          </p:grpSpPr>
          <p:grpSp>
            <p:nvGrpSpPr>
              <p:cNvPr id="1146" name="그룹 97"/>
              <p:cNvGrpSpPr/>
              <p:nvPr/>
            </p:nvGrpSpPr>
            <p:grpSpPr>
              <a:xfrm>
                <a:off x="993600" y="4214520"/>
                <a:ext cx="295200" cy="345600"/>
                <a:chOff x="993600" y="4214520"/>
                <a:chExt cx="295200" cy="345600"/>
              </a:xfrm>
            </p:grpSpPr>
            <p:pic>
              <p:nvPicPr>
                <p:cNvPr id="1147" name="Picture 177" descr="bull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000080" y="4277880"/>
                  <a:ext cx="283680" cy="282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48" name="TextBox 146"/>
                <p:cNvSpPr/>
                <p:nvPr/>
              </p:nvSpPr>
              <p:spPr>
                <a:xfrm>
                  <a:off x="993600" y="421452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49" name="직사각형 42"/>
              <p:cNvSpPr/>
              <p:nvPr/>
            </p:nvSpPr>
            <p:spPr>
              <a:xfrm>
                <a:off x="1206000" y="4143240"/>
                <a:ext cx="198828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조직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organization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50" name="직선 연결선 32"/>
            <p:cNvSpPr/>
            <p:nvPr/>
          </p:nvSpPr>
          <p:spPr>
            <a:xfrm>
              <a:off x="4484520" y="442908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51" name="그룹 114"/>
            <p:cNvGrpSpPr/>
            <p:nvPr/>
          </p:nvGrpSpPr>
          <p:grpSpPr>
            <a:xfrm>
              <a:off x="1361880" y="4586040"/>
              <a:ext cx="7409160" cy="1554120"/>
              <a:chOff x="1361880" y="4586040"/>
              <a:chExt cx="7409160" cy="1554120"/>
            </a:xfrm>
          </p:grpSpPr>
          <p:sp>
            <p:nvSpPr>
              <p:cNvPr id="1152" name="직사각형 37"/>
              <p:cNvSpPr/>
              <p:nvPr/>
            </p:nvSpPr>
            <p:spPr>
              <a:xfrm>
                <a:off x="1599120" y="4586040"/>
                <a:ext cx="7171920" cy="1554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들을 의미적으로 관련되고 일관성이 있는 범주로 묶는 기법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조직화를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하면 정보들이 체계적으로 관련되어 기억을 촉진한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조직화 전략으로는 도표작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위계도 작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개념도 등이 있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예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아지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배추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과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치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말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삽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고구마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괭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양파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고양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배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53" name="타원 35"/>
              <p:cNvGrpSpPr/>
              <p:nvPr/>
            </p:nvGrpSpPr>
            <p:grpSpPr>
              <a:xfrm>
                <a:off x="1361880" y="4730040"/>
                <a:ext cx="229320" cy="231480"/>
                <a:chOff x="1361880" y="4730040"/>
                <a:chExt cx="229320" cy="231480"/>
              </a:xfrm>
            </p:grpSpPr>
            <p:pic>
              <p:nvPicPr>
                <p:cNvPr id="1154" name="타원 35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361880" y="473004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55" name=""/>
                <p:cNvSpPr/>
                <p:nvPr/>
              </p:nvSpPr>
              <p:spPr>
                <a:xfrm rot="10800000">
                  <a:off x="1444680" y="47872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56" name="타원 36"/>
              <p:cNvGrpSpPr/>
              <p:nvPr/>
            </p:nvGrpSpPr>
            <p:grpSpPr>
              <a:xfrm>
                <a:off x="1361880" y="5114520"/>
                <a:ext cx="229320" cy="231480"/>
                <a:chOff x="1361880" y="5114520"/>
                <a:chExt cx="229320" cy="231480"/>
              </a:xfrm>
            </p:grpSpPr>
            <p:pic>
              <p:nvPicPr>
                <p:cNvPr id="1157" name="타원 36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61880" y="511452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58" name=""/>
                <p:cNvSpPr/>
                <p:nvPr/>
              </p:nvSpPr>
              <p:spPr>
                <a:xfrm rot="10800000">
                  <a:off x="1444680" y="51692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59" name="타원 53"/>
              <p:cNvGrpSpPr/>
              <p:nvPr/>
            </p:nvGrpSpPr>
            <p:grpSpPr>
              <a:xfrm>
                <a:off x="1361880" y="5456160"/>
                <a:ext cx="229320" cy="231480"/>
                <a:chOff x="1361880" y="5456160"/>
                <a:chExt cx="229320" cy="231480"/>
              </a:xfrm>
            </p:grpSpPr>
            <p:pic>
              <p:nvPicPr>
                <p:cNvPr id="1160" name="타원 53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361880" y="545616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61" name=""/>
                <p:cNvSpPr/>
                <p:nvPr/>
              </p:nvSpPr>
              <p:spPr>
                <a:xfrm rot="10800000">
                  <a:off x="1444680" y="55152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162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16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164" name="직사각형 13"/>
              <p:cNvSpPr/>
              <p:nvPr/>
            </p:nvSpPr>
            <p:spPr>
              <a:xfrm>
                <a:off x="1414440" y="1385640"/>
                <a:ext cx="1615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과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/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전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5" name="직선 연결선 52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6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16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6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169" name="Freeform 5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7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71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1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2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73" name="그룹 63"/>
          <p:cNvGrpSpPr/>
          <p:nvPr/>
        </p:nvGrpSpPr>
        <p:grpSpPr>
          <a:xfrm>
            <a:off x="285840" y="1928880"/>
            <a:ext cx="8501040" cy="4429080"/>
            <a:chOff x="285840" y="1928880"/>
            <a:chExt cx="8501040" cy="4429080"/>
          </a:xfrm>
        </p:grpSpPr>
        <p:pic>
          <p:nvPicPr>
            <p:cNvPr id="1174" name="Picture 5" descr="233"/>
            <p:cNvPicPr/>
            <p:nvPr/>
          </p:nvPicPr>
          <p:blipFill>
            <a:blip r:embed="rId2"/>
            <a:srcRect l="0" t="0" r="24313" b="0"/>
            <a:stretch/>
          </p:blipFill>
          <p:spPr>
            <a:xfrm>
              <a:off x="285840" y="2131920"/>
              <a:ext cx="8501040" cy="422604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175" name="그룹 44"/>
            <p:cNvGrpSpPr/>
            <p:nvPr/>
          </p:nvGrpSpPr>
          <p:grpSpPr>
            <a:xfrm>
              <a:off x="928440" y="1928880"/>
              <a:ext cx="7574040" cy="505440"/>
              <a:chOff x="928440" y="1928880"/>
              <a:chExt cx="7574040" cy="505440"/>
            </a:xfrm>
          </p:grpSpPr>
          <p:grpSp>
            <p:nvGrpSpPr>
              <p:cNvPr id="1176" name="그룹 91"/>
              <p:cNvGrpSpPr/>
              <p:nvPr/>
            </p:nvGrpSpPr>
            <p:grpSpPr>
              <a:xfrm>
                <a:off x="928440" y="1928880"/>
                <a:ext cx="2823840" cy="505440"/>
                <a:chOff x="928440" y="1928880"/>
                <a:chExt cx="2823840" cy="505440"/>
              </a:xfrm>
            </p:grpSpPr>
            <p:grpSp>
              <p:nvGrpSpPr>
                <p:cNvPr id="1177" name="그룹 34"/>
                <p:cNvGrpSpPr/>
                <p:nvPr/>
              </p:nvGrpSpPr>
              <p:grpSpPr>
                <a:xfrm>
                  <a:off x="928440" y="2032920"/>
                  <a:ext cx="349200" cy="343800"/>
                  <a:chOff x="928440" y="2032920"/>
                  <a:chExt cx="349200" cy="343800"/>
                </a:xfrm>
              </p:grpSpPr>
              <p:pic>
                <p:nvPicPr>
                  <p:cNvPr id="1178" name="Picture 177" descr="bull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28440" y="2041920"/>
                    <a:ext cx="349200" cy="3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179" name="TextBox 36"/>
                  <p:cNvSpPr/>
                  <p:nvPr/>
                </p:nvSpPr>
                <p:spPr>
                  <a:xfrm>
                    <a:off x="957960" y="20329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3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80" name="직사각형 24"/>
                <p:cNvSpPr/>
                <p:nvPr/>
              </p:nvSpPr>
              <p:spPr>
                <a:xfrm>
                  <a:off x="1449000" y="1928880"/>
                  <a:ext cx="2303280" cy="50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부호화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약호화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, 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encoding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81" name="직선 연결선 22"/>
              <p:cNvSpPr/>
              <p:nvPr/>
            </p:nvSpPr>
            <p:spPr>
              <a:xfrm flipV="1">
                <a:off x="6286320" y="2201400"/>
                <a:ext cx="2216160" cy="1260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82" name="그룹 30"/>
          <p:cNvGrpSpPr/>
          <p:nvPr/>
        </p:nvGrpSpPr>
        <p:grpSpPr>
          <a:xfrm>
            <a:off x="996840" y="2395440"/>
            <a:ext cx="7774200" cy="2317320"/>
            <a:chOff x="996840" y="2395440"/>
            <a:chExt cx="7774200" cy="2317320"/>
          </a:xfrm>
        </p:grpSpPr>
        <p:grpSp>
          <p:nvGrpSpPr>
            <p:cNvPr id="1183" name="그룹 142"/>
            <p:cNvGrpSpPr/>
            <p:nvPr/>
          </p:nvGrpSpPr>
          <p:grpSpPr>
            <a:xfrm>
              <a:off x="996840" y="2395440"/>
              <a:ext cx="2066400" cy="505440"/>
              <a:chOff x="996840" y="2395440"/>
              <a:chExt cx="2066400" cy="505440"/>
            </a:xfrm>
          </p:grpSpPr>
          <p:grpSp>
            <p:nvGrpSpPr>
              <p:cNvPr id="1184" name="그룹 97"/>
              <p:cNvGrpSpPr/>
              <p:nvPr/>
            </p:nvGrpSpPr>
            <p:grpSpPr>
              <a:xfrm>
                <a:off x="996840" y="2486880"/>
                <a:ext cx="305640" cy="338400"/>
                <a:chOff x="996840" y="2486880"/>
                <a:chExt cx="305640" cy="338400"/>
              </a:xfrm>
            </p:grpSpPr>
            <p:pic>
              <p:nvPicPr>
                <p:cNvPr id="1185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000080" y="2541240"/>
                  <a:ext cx="286200" cy="2840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6" name="TextBox 146"/>
                <p:cNvSpPr/>
                <p:nvPr/>
              </p:nvSpPr>
              <p:spPr>
                <a:xfrm>
                  <a:off x="996840" y="248688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87" name="직사각형 42"/>
              <p:cNvSpPr/>
              <p:nvPr/>
            </p:nvSpPr>
            <p:spPr>
              <a:xfrm>
                <a:off x="1181520" y="2395440"/>
                <a:ext cx="18817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교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elaboration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88" name="직선 연결선 32"/>
            <p:cNvSpPr/>
            <p:nvPr/>
          </p:nvSpPr>
          <p:spPr>
            <a:xfrm>
              <a:off x="4484520" y="26809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89" name="그룹 114"/>
            <p:cNvGrpSpPr/>
            <p:nvPr/>
          </p:nvGrpSpPr>
          <p:grpSpPr>
            <a:xfrm>
              <a:off x="1361880" y="2793600"/>
              <a:ext cx="7409160" cy="1919160"/>
              <a:chOff x="1361880" y="2793600"/>
              <a:chExt cx="7409160" cy="1919160"/>
            </a:xfrm>
          </p:grpSpPr>
          <p:sp>
            <p:nvSpPr>
              <p:cNvPr id="1190" name="직사각형 37"/>
              <p:cNvSpPr/>
              <p:nvPr/>
            </p:nvSpPr>
            <p:spPr>
              <a:xfrm>
                <a:off x="1599120" y="2793600"/>
                <a:ext cx="7171920" cy="1919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새로운 정보에 의미를 추가하거나 그 정보를 기존 지식에 관련짓는 인지전략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의 의미를 심화시키고 확장하는 전략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의 의미를 해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례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구체적 특성을 분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추론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예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이 자료에 대한 결론은 무엇인가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?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91" name="타원 35"/>
              <p:cNvGrpSpPr/>
              <p:nvPr/>
            </p:nvGrpSpPr>
            <p:grpSpPr>
              <a:xfrm>
                <a:off x="1361880" y="2937600"/>
                <a:ext cx="229320" cy="231480"/>
                <a:chOff x="1361880" y="2937600"/>
                <a:chExt cx="229320" cy="231480"/>
              </a:xfrm>
            </p:grpSpPr>
            <p:pic>
              <p:nvPicPr>
                <p:cNvPr id="1192" name="타원 35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361880" y="293760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3" name=""/>
                <p:cNvSpPr/>
                <p:nvPr/>
              </p:nvSpPr>
              <p:spPr>
                <a:xfrm rot="10800000">
                  <a:off x="1444680" y="29948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94" name="타원 36"/>
              <p:cNvGrpSpPr/>
              <p:nvPr/>
            </p:nvGrpSpPr>
            <p:grpSpPr>
              <a:xfrm>
                <a:off x="1361880" y="3321720"/>
                <a:ext cx="229320" cy="231480"/>
                <a:chOff x="1361880" y="3321720"/>
                <a:chExt cx="229320" cy="231480"/>
              </a:xfrm>
            </p:grpSpPr>
            <p:pic>
              <p:nvPicPr>
                <p:cNvPr id="1195" name="타원 36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361880" y="332172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6" name=""/>
                <p:cNvSpPr/>
                <p:nvPr/>
              </p:nvSpPr>
              <p:spPr>
                <a:xfrm rot="10800000">
                  <a:off x="1444680" y="33760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97" name="타원 53"/>
              <p:cNvGrpSpPr/>
              <p:nvPr/>
            </p:nvGrpSpPr>
            <p:grpSpPr>
              <a:xfrm>
                <a:off x="1361880" y="3663000"/>
                <a:ext cx="229320" cy="231480"/>
                <a:chOff x="1361880" y="3663000"/>
                <a:chExt cx="229320" cy="231480"/>
              </a:xfrm>
            </p:grpSpPr>
            <p:pic>
              <p:nvPicPr>
                <p:cNvPr id="1198" name="타원 5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361880" y="366300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9" name=""/>
                <p:cNvSpPr/>
                <p:nvPr/>
              </p:nvSpPr>
              <p:spPr>
                <a:xfrm rot="10800000">
                  <a:off x="1444680" y="37220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200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201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02" name="직사각형 13"/>
              <p:cNvSpPr/>
              <p:nvPr/>
            </p:nvSpPr>
            <p:spPr>
              <a:xfrm>
                <a:off x="1414440" y="1385640"/>
                <a:ext cx="1615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과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/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전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3" name="직선 연결선 52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0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07" name="Freeform 5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0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09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0" name="그룹 30"/>
          <p:cNvGrpSpPr/>
          <p:nvPr/>
        </p:nvGrpSpPr>
        <p:grpSpPr>
          <a:xfrm>
            <a:off x="1000080" y="4338720"/>
            <a:ext cx="7770960" cy="1579320"/>
            <a:chOff x="1000080" y="4338720"/>
            <a:chExt cx="7770960" cy="1579320"/>
          </a:xfrm>
        </p:grpSpPr>
        <p:grpSp>
          <p:nvGrpSpPr>
            <p:cNvPr id="1211" name="그룹 142"/>
            <p:cNvGrpSpPr/>
            <p:nvPr/>
          </p:nvGrpSpPr>
          <p:grpSpPr>
            <a:xfrm>
              <a:off x="1000080" y="4338720"/>
              <a:ext cx="2536920" cy="505440"/>
              <a:chOff x="1000080" y="4338720"/>
              <a:chExt cx="2536920" cy="505440"/>
            </a:xfrm>
          </p:grpSpPr>
          <p:grpSp>
            <p:nvGrpSpPr>
              <p:cNvPr id="1212" name="그룹 97"/>
              <p:cNvGrpSpPr/>
              <p:nvPr/>
            </p:nvGrpSpPr>
            <p:grpSpPr>
              <a:xfrm>
                <a:off x="1000080" y="4422240"/>
                <a:ext cx="285480" cy="338400"/>
                <a:chOff x="1000080" y="4422240"/>
                <a:chExt cx="285480" cy="338400"/>
              </a:xfrm>
            </p:grpSpPr>
            <p:pic>
              <p:nvPicPr>
                <p:cNvPr id="1213" name="Picture 177" descr="bull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000080" y="4479120"/>
                  <a:ext cx="285480" cy="2815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14" name="TextBox 146"/>
                <p:cNvSpPr/>
                <p:nvPr/>
              </p:nvSpPr>
              <p:spPr>
                <a:xfrm>
                  <a:off x="1003680" y="4422240"/>
                  <a:ext cx="2782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15" name="직사각형 58"/>
              <p:cNvSpPr/>
              <p:nvPr/>
            </p:nvSpPr>
            <p:spPr>
              <a:xfrm>
                <a:off x="1236240" y="4338720"/>
                <a:ext cx="23007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심상형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visual imagery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16" name="직선 연결선 45"/>
            <p:cNvSpPr/>
            <p:nvPr/>
          </p:nvSpPr>
          <p:spPr>
            <a:xfrm>
              <a:off x="4484520" y="462420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17" name="그룹 114"/>
            <p:cNvGrpSpPr/>
            <p:nvPr/>
          </p:nvGrpSpPr>
          <p:grpSpPr>
            <a:xfrm>
              <a:off x="1361880" y="4728960"/>
              <a:ext cx="7409160" cy="1189080"/>
              <a:chOff x="1361880" y="4728960"/>
              <a:chExt cx="7409160" cy="1189080"/>
            </a:xfrm>
          </p:grpSpPr>
          <p:sp>
            <p:nvSpPr>
              <p:cNvPr id="1218" name="직사각형 37"/>
              <p:cNvSpPr/>
              <p:nvPr/>
            </p:nvSpPr>
            <p:spPr>
              <a:xfrm>
                <a:off x="1599120" y="4728960"/>
                <a:ext cx="7171920" cy="1189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를 시각적인 형태로 변형하는 과정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즉 정보의 모습에 대한 정신적 그림을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그리는 기법이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심상형성은 기억을 촉진한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19" name="타원 54"/>
              <p:cNvGrpSpPr/>
              <p:nvPr/>
            </p:nvGrpSpPr>
            <p:grpSpPr>
              <a:xfrm>
                <a:off x="1361880" y="4870440"/>
                <a:ext cx="229320" cy="237600"/>
                <a:chOff x="1361880" y="4870440"/>
                <a:chExt cx="229320" cy="237600"/>
              </a:xfrm>
            </p:grpSpPr>
            <p:pic>
              <p:nvPicPr>
                <p:cNvPr id="1220" name="타원 54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1361880" y="4870440"/>
                  <a:ext cx="229320" cy="237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21" name=""/>
                <p:cNvSpPr/>
                <p:nvPr/>
              </p:nvSpPr>
              <p:spPr>
                <a:xfrm rot="10800000">
                  <a:off x="1444680" y="49302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22" name="타원 56"/>
              <p:cNvGrpSpPr/>
              <p:nvPr/>
            </p:nvGrpSpPr>
            <p:grpSpPr>
              <a:xfrm>
                <a:off x="1361880" y="5602320"/>
                <a:ext cx="229320" cy="231480"/>
                <a:chOff x="1361880" y="5602320"/>
                <a:chExt cx="229320" cy="231480"/>
              </a:xfrm>
            </p:grpSpPr>
            <p:pic>
              <p:nvPicPr>
                <p:cNvPr id="1223" name="타원 56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1361880" y="560232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24" name=""/>
                <p:cNvSpPr/>
                <p:nvPr/>
              </p:nvSpPr>
              <p:spPr>
                <a:xfrm rot="10800000">
                  <a:off x="1444680" y="56577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1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5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cxnSp>
        <p:nvCxnSpPr>
          <p:cNvPr id="1226" name="꺾인 연결선 14"/>
          <p:cNvCxnSpPr/>
          <p:nvPr/>
        </p:nvCxnSpPr>
        <p:spPr>
          <a:xfrm>
            <a:off x="1428840" y="-357120"/>
            <a:ext cx="714960" cy="357840"/>
          </a:xfrm>
          <a:prstGeom prst="bentConnector3">
            <a:avLst>
              <a:gd name="adj1" fmla="val 201"/>
            </a:avLst>
          </a:prstGeom>
          <a:ln w="9360">
            <a:solidFill>
              <a:srgbClr val="438086"/>
            </a:solidFill>
            <a:miter/>
            <a:tailEnd len="med" type="arrow" w="med"/>
          </a:ln>
        </p:spPr>
      </p:cxnSp>
      <p:grpSp>
        <p:nvGrpSpPr>
          <p:cNvPr id="1227" name="그룹 173"/>
          <p:cNvGrpSpPr/>
          <p:nvPr/>
        </p:nvGrpSpPr>
        <p:grpSpPr>
          <a:xfrm>
            <a:off x="285840" y="1857240"/>
            <a:ext cx="8572320" cy="4643640"/>
            <a:chOff x="285840" y="1857240"/>
            <a:chExt cx="8572320" cy="4643640"/>
          </a:xfrm>
        </p:grpSpPr>
        <p:grpSp>
          <p:nvGrpSpPr>
            <p:cNvPr id="1228" name="그룹 63"/>
            <p:cNvGrpSpPr/>
            <p:nvPr/>
          </p:nvGrpSpPr>
          <p:grpSpPr>
            <a:xfrm>
              <a:off x="285840" y="1857240"/>
              <a:ext cx="8572320" cy="4643640"/>
              <a:chOff x="285840" y="1857240"/>
              <a:chExt cx="8572320" cy="4643640"/>
            </a:xfrm>
          </p:grpSpPr>
          <p:grpSp>
            <p:nvGrpSpPr>
              <p:cNvPr id="1229" name="그룹 91"/>
              <p:cNvGrpSpPr/>
              <p:nvPr/>
            </p:nvGrpSpPr>
            <p:grpSpPr>
              <a:xfrm>
                <a:off x="285840" y="2060280"/>
                <a:ext cx="8572320" cy="4440600"/>
                <a:chOff x="285840" y="2060280"/>
                <a:chExt cx="8572320" cy="4440600"/>
              </a:xfrm>
            </p:grpSpPr>
            <p:pic>
              <p:nvPicPr>
                <p:cNvPr id="1230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85840" y="2060280"/>
                  <a:ext cx="8501040" cy="44406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231" name="직사각형 32"/>
                <p:cNvSpPr/>
                <p:nvPr/>
              </p:nvSpPr>
              <p:spPr>
                <a:xfrm>
                  <a:off x="1143000" y="2356920"/>
                  <a:ext cx="7715160" cy="173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출이란 장기기억에 저장되어 있는 정보에 접근하는 과정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출단서의 존재 여부가 인출에 큰 영향을 준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예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 </a:t>
                  </a: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책의 어디서 배웠지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?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출단서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저장된 정보에 접근할 수 있는 실마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32" name="그룹 44"/>
              <p:cNvGrpSpPr/>
              <p:nvPr/>
            </p:nvGrpSpPr>
            <p:grpSpPr>
              <a:xfrm>
                <a:off x="928440" y="1857240"/>
                <a:ext cx="7574040" cy="505440"/>
                <a:chOff x="928440" y="1857240"/>
                <a:chExt cx="7574040" cy="505440"/>
              </a:xfrm>
            </p:grpSpPr>
            <p:grpSp>
              <p:nvGrpSpPr>
                <p:cNvPr id="1233" name="그룹 91"/>
                <p:cNvGrpSpPr/>
                <p:nvPr/>
              </p:nvGrpSpPr>
              <p:grpSpPr>
                <a:xfrm>
                  <a:off x="928440" y="1857240"/>
                  <a:ext cx="1787040" cy="505440"/>
                  <a:chOff x="928440" y="1857240"/>
                  <a:chExt cx="1787040" cy="505440"/>
                </a:xfrm>
              </p:grpSpPr>
              <p:grpSp>
                <p:nvGrpSpPr>
                  <p:cNvPr id="1234" name="그룹 34"/>
                  <p:cNvGrpSpPr/>
                  <p:nvPr/>
                </p:nvGrpSpPr>
                <p:grpSpPr>
                  <a:xfrm>
                    <a:off x="928440" y="1961280"/>
                    <a:ext cx="349200" cy="343800"/>
                    <a:chOff x="928440" y="1961280"/>
                    <a:chExt cx="349200" cy="343800"/>
                  </a:xfrm>
                </p:grpSpPr>
                <p:pic>
                  <p:nvPicPr>
                    <p:cNvPr id="1235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928440" y="1968480"/>
                      <a:ext cx="349200" cy="336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236" name="TextBox 36"/>
                    <p:cNvSpPr/>
                    <p:nvPr/>
                  </p:nvSpPr>
                  <p:spPr>
                    <a:xfrm>
                      <a:off x="957960" y="19612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237" name="직사각형 28"/>
                  <p:cNvSpPr/>
                  <p:nvPr/>
                </p:nvSpPr>
                <p:spPr>
                  <a:xfrm>
                    <a:off x="1285200" y="1857240"/>
                    <a:ext cx="1430280" cy="505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인출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retrieval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38" name="직선 연결선 26"/>
                <p:cNvSpPr/>
                <p:nvPr/>
              </p:nvSpPr>
              <p:spPr>
                <a:xfrm flipV="1">
                  <a:off x="6286320" y="212976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39" name="타원 19"/>
            <p:cNvGrpSpPr/>
            <p:nvPr/>
          </p:nvGrpSpPr>
          <p:grpSpPr>
            <a:xfrm>
              <a:off x="932760" y="2517480"/>
              <a:ext cx="225360" cy="231480"/>
              <a:chOff x="932760" y="2517480"/>
              <a:chExt cx="225360" cy="231480"/>
            </a:xfrm>
          </p:grpSpPr>
          <p:pic>
            <p:nvPicPr>
              <p:cNvPr id="1240" name="타원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932760" y="25174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1" name=""/>
              <p:cNvSpPr/>
              <p:nvPr/>
            </p:nvSpPr>
            <p:spPr>
              <a:xfrm rot="10800000">
                <a:off x="1014480" y="25718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2" name="타원 56"/>
            <p:cNvGrpSpPr/>
            <p:nvPr/>
          </p:nvGrpSpPr>
          <p:grpSpPr>
            <a:xfrm>
              <a:off x="932760" y="2956320"/>
              <a:ext cx="225360" cy="231480"/>
              <a:chOff x="932760" y="2956320"/>
              <a:chExt cx="225360" cy="231480"/>
            </a:xfrm>
          </p:grpSpPr>
          <p:pic>
            <p:nvPicPr>
              <p:cNvPr id="1243" name="타원 56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29563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4" name=""/>
              <p:cNvSpPr/>
              <p:nvPr/>
            </p:nvSpPr>
            <p:spPr>
              <a:xfrm rot="10800000">
                <a:off x="1014480" y="30142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45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24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47" name="직사각형 13"/>
              <p:cNvSpPr/>
              <p:nvPr/>
            </p:nvSpPr>
            <p:spPr>
              <a:xfrm>
                <a:off x="1414440" y="1385640"/>
                <a:ext cx="1615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과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/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전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8" name="직선 연결선 42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5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5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52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5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54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5" name="그룹 30"/>
          <p:cNvGrpSpPr/>
          <p:nvPr/>
        </p:nvGrpSpPr>
        <p:grpSpPr>
          <a:xfrm>
            <a:off x="993600" y="4179960"/>
            <a:ext cx="7777440" cy="1183680"/>
            <a:chOff x="993600" y="4179960"/>
            <a:chExt cx="7777440" cy="1183680"/>
          </a:xfrm>
        </p:grpSpPr>
        <p:grpSp>
          <p:nvGrpSpPr>
            <p:cNvPr id="1256" name="그룹 142"/>
            <p:cNvGrpSpPr/>
            <p:nvPr/>
          </p:nvGrpSpPr>
          <p:grpSpPr>
            <a:xfrm>
              <a:off x="993600" y="4179960"/>
              <a:ext cx="4391640" cy="505440"/>
              <a:chOff x="993600" y="4179960"/>
              <a:chExt cx="4391640" cy="505440"/>
            </a:xfrm>
          </p:grpSpPr>
          <p:grpSp>
            <p:nvGrpSpPr>
              <p:cNvPr id="1257" name="그룹 97"/>
              <p:cNvGrpSpPr/>
              <p:nvPr/>
            </p:nvGrpSpPr>
            <p:grpSpPr>
              <a:xfrm>
                <a:off x="993600" y="4237200"/>
                <a:ext cx="295200" cy="337320"/>
                <a:chOff x="993600" y="4237200"/>
                <a:chExt cx="295200" cy="337320"/>
              </a:xfrm>
            </p:grpSpPr>
            <p:pic>
              <p:nvPicPr>
                <p:cNvPr id="1258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000080" y="4290120"/>
                  <a:ext cx="283680" cy="280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59" name="TextBox 146"/>
                <p:cNvSpPr/>
                <p:nvPr/>
              </p:nvSpPr>
              <p:spPr>
                <a:xfrm>
                  <a:off x="993600" y="423720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60" name="직사각형 52"/>
              <p:cNvSpPr/>
              <p:nvPr/>
            </p:nvSpPr>
            <p:spPr>
              <a:xfrm>
                <a:off x="1377720" y="4179960"/>
                <a:ext cx="40075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부호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수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encoding specificity principle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61" name="직선 연결선 45"/>
            <p:cNvSpPr/>
            <p:nvPr/>
          </p:nvSpPr>
          <p:spPr>
            <a:xfrm>
              <a:off x="5786640" y="4460760"/>
              <a:ext cx="262872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62" name="그룹 114"/>
            <p:cNvGrpSpPr/>
            <p:nvPr/>
          </p:nvGrpSpPr>
          <p:grpSpPr>
            <a:xfrm>
              <a:off x="1361880" y="4539600"/>
              <a:ext cx="7409160" cy="824040"/>
              <a:chOff x="1361880" y="4539600"/>
              <a:chExt cx="7409160" cy="824040"/>
            </a:xfrm>
          </p:grpSpPr>
          <p:sp>
            <p:nvSpPr>
              <p:cNvPr id="1263" name="직사각형 37"/>
              <p:cNvSpPr/>
              <p:nvPr/>
            </p:nvSpPr>
            <p:spPr>
              <a:xfrm>
                <a:off x="1599120" y="4539600"/>
                <a:ext cx="717192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를 부호화할 때 사용된 단서가 가장 효과적인 인출단서가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된다는 원리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즉 인출조건이 부호화 조건과 일치할수록 기억이 촉진된다는 원리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64" name="타원 48"/>
              <p:cNvGrpSpPr/>
              <p:nvPr/>
            </p:nvGrpSpPr>
            <p:grpSpPr>
              <a:xfrm>
                <a:off x="1361880" y="4681080"/>
                <a:ext cx="229320" cy="231840"/>
                <a:chOff x="1361880" y="4681080"/>
                <a:chExt cx="229320" cy="231840"/>
              </a:xfrm>
            </p:grpSpPr>
            <p:pic>
              <p:nvPicPr>
                <p:cNvPr id="1265" name="타원 48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61880" y="4681080"/>
                  <a:ext cx="229320" cy="23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66" name=""/>
                <p:cNvSpPr/>
                <p:nvPr/>
              </p:nvSpPr>
              <p:spPr>
                <a:xfrm rot="10800000">
                  <a:off x="1444680" y="4737600"/>
                  <a:ext cx="68760" cy="68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267" name="그룹 30"/>
          <p:cNvGrpSpPr/>
          <p:nvPr/>
        </p:nvGrpSpPr>
        <p:grpSpPr>
          <a:xfrm>
            <a:off x="996840" y="5394240"/>
            <a:ext cx="7774200" cy="818280"/>
            <a:chOff x="996840" y="5394240"/>
            <a:chExt cx="7774200" cy="818280"/>
          </a:xfrm>
        </p:grpSpPr>
        <p:grpSp>
          <p:nvGrpSpPr>
            <p:cNvPr id="1268" name="그룹 142"/>
            <p:cNvGrpSpPr/>
            <p:nvPr/>
          </p:nvGrpSpPr>
          <p:grpSpPr>
            <a:xfrm>
              <a:off x="996840" y="5394240"/>
              <a:ext cx="3925080" cy="505440"/>
              <a:chOff x="996840" y="5394240"/>
              <a:chExt cx="3925080" cy="505440"/>
            </a:xfrm>
          </p:grpSpPr>
          <p:grpSp>
            <p:nvGrpSpPr>
              <p:cNvPr id="1269" name="그룹 97"/>
              <p:cNvGrpSpPr/>
              <p:nvPr/>
            </p:nvGrpSpPr>
            <p:grpSpPr>
              <a:xfrm>
                <a:off x="996840" y="5451480"/>
                <a:ext cx="305640" cy="338040"/>
                <a:chOff x="996840" y="5451480"/>
                <a:chExt cx="305640" cy="338040"/>
              </a:xfrm>
            </p:grpSpPr>
            <p:pic>
              <p:nvPicPr>
                <p:cNvPr id="1270" name="Picture 177" descr="bull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000080" y="5504040"/>
                  <a:ext cx="286200" cy="285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71" name="TextBox 146"/>
                <p:cNvSpPr/>
                <p:nvPr/>
              </p:nvSpPr>
              <p:spPr>
                <a:xfrm>
                  <a:off x="996840" y="545148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72" name="직사각형 64"/>
              <p:cNvSpPr/>
              <p:nvPr/>
            </p:nvSpPr>
            <p:spPr>
              <a:xfrm>
                <a:off x="1302840" y="5394240"/>
                <a:ext cx="361908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상태의존학습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state-dependent learning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73" name="직선 연결선 59"/>
            <p:cNvSpPr/>
            <p:nvPr/>
          </p:nvSpPr>
          <p:spPr>
            <a:xfrm>
              <a:off x="5786640" y="5675040"/>
              <a:ext cx="262872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74" name="그룹 114"/>
            <p:cNvGrpSpPr/>
            <p:nvPr/>
          </p:nvGrpSpPr>
          <p:grpSpPr>
            <a:xfrm>
              <a:off x="1361880" y="5753520"/>
              <a:ext cx="7409160" cy="459000"/>
              <a:chOff x="1361880" y="5753520"/>
              <a:chExt cx="7409160" cy="459000"/>
            </a:xfrm>
          </p:grpSpPr>
          <p:sp>
            <p:nvSpPr>
              <p:cNvPr id="1275" name="직사각형 37"/>
              <p:cNvSpPr/>
              <p:nvPr/>
            </p:nvSpPr>
            <p:spPr>
              <a:xfrm>
                <a:off x="1599120" y="5753520"/>
                <a:ext cx="71719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정 정서상태에서 학습한 내용은 같은 정서상태에서 더 잘 회상되는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현상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6" name="타원 62"/>
              <p:cNvGrpSpPr/>
              <p:nvPr/>
            </p:nvGrpSpPr>
            <p:grpSpPr>
              <a:xfrm>
                <a:off x="1361880" y="5895000"/>
                <a:ext cx="229320" cy="231480"/>
                <a:chOff x="1361880" y="5895000"/>
                <a:chExt cx="229320" cy="231480"/>
              </a:xfrm>
            </p:grpSpPr>
            <p:pic>
              <p:nvPicPr>
                <p:cNvPr id="1277" name="타원 62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1361880" y="589500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78" name=""/>
                <p:cNvSpPr/>
                <p:nvPr/>
              </p:nvSpPr>
              <p:spPr>
                <a:xfrm rot="10800000">
                  <a:off x="1444680" y="5951880"/>
                  <a:ext cx="68760" cy="68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1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9" name="TextBox 12" descr=""/>
          <p:cNvPicPr/>
          <p:nvPr/>
        </p:nvPicPr>
        <p:blipFill>
          <a:blip r:embed="rId1"/>
          <a:stretch/>
        </p:blipFill>
        <p:spPr>
          <a:xfrm>
            <a:off x="3749760" y="506520"/>
            <a:ext cx="544968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80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281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82" name="직사각형 13"/>
              <p:cNvSpPr/>
              <p:nvPr/>
            </p:nvSpPr>
            <p:spPr>
              <a:xfrm>
                <a:off x="1365840" y="1385640"/>
                <a:ext cx="109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처리수준모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3" name="직선 연결선 10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8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8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87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8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89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0" name="그룹 63"/>
          <p:cNvGrpSpPr/>
          <p:nvPr/>
        </p:nvGrpSpPr>
        <p:grpSpPr>
          <a:xfrm>
            <a:off x="285840" y="1928880"/>
            <a:ext cx="8501040" cy="2357280"/>
            <a:chOff x="285840" y="1928880"/>
            <a:chExt cx="8501040" cy="2357280"/>
          </a:xfrm>
        </p:grpSpPr>
        <p:grpSp>
          <p:nvGrpSpPr>
            <p:cNvPr id="1291" name="그룹 91"/>
            <p:cNvGrpSpPr/>
            <p:nvPr/>
          </p:nvGrpSpPr>
          <p:grpSpPr>
            <a:xfrm>
              <a:off x="285840" y="2131920"/>
              <a:ext cx="8501040" cy="2154240"/>
              <a:chOff x="285840" y="2131920"/>
              <a:chExt cx="8501040" cy="2154240"/>
            </a:xfrm>
          </p:grpSpPr>
          <p:pic>
            <p:nvPicPr>
              <p:cNvPr id="1292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131920"/>
                <a:ext cx="8501040" cy="21542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293" name="직사각형 32"/>
              <p:cNvSpPr/>
              <p:nvPr/>
            </p:nvSpPr>
            <p:spPr>
              <a:xfrm>
                <a:off x="1214280" y="2428560"/>
                <a:ext cx="757260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억이 정보를 처리하는 방식에 따라 달라진다는 모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처리 모형과 달리 처리수준모형은 기억 단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단기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장기 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를 상정하지  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않으므로 정보가 계열적으로 처리된다고 가정하지 않는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중앙 처리자가 정보를 여러 수준에서 처리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94" name="그룹 44"/>
            <p:cNvGrpSpPr/>
            <p:nvPr/>
          </p:nvGrpSpPr>
          <p:grpSpPr>
            <a:xfrm>
              <a:off x="928440" y="1928880"/>
              <a:ext cx="7574040" cy="551160"/>
              <a:chOff x="928440" y="1928880"/>
              <a:chExt cx="7574040" cy="551160"/>
            </a:xfrm>
          </p:grpSpPr>
          <p:grpSp>
            <p:nvGrpSpPr>
              <p:cNvPr id="1295" name="그룹 91"/>
              <p:cNvGrpSpPr/>
              <p:nvPr/>
            </p:nvGrpSpPr>
            <p:grpSpPr>
              <a:xfrm>
                <a:off x="928440" y="1928880"/>
                <a:ext cx="845640" cy="551160"/>
                <a:chOff x="928440" y="1928880"/>
                <a:chExt cx="845640" cy="551160"/>
              </a:xfrm>
            </p:grpSpPr>
            <p:grpSp>
              <p:nvGrpSpPr>
                <p:cNvPr id="1296" name="그룹 34"/>
                <p:cNvGrpSpPr/>
                <p:nvPr/>
              </p:nvGrpSpPr>
              <p:grpSpPr>
                <a:xfrm>
                  <a:off x="928440" y="2032560"/>
                  <a:ext cx="348840" cy="343440"/>
                  <a:chOff x="928440" y="2032560"/>
                  <a:chExt cx="348840" cy="343440"/>
                </a:xfrm>
              </p:grpSpPr>
              <p:pic>
                <p:nvPicPr>
                  <p:cNvPr id="1297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041560"/>
                    <a:ext cx="348840" cy="33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298" name="TextBox 36"/>
                  <p:cNvSpPr/>
                  <p:nvPr/>
                </p:nvSpPr>
                <p:spPr>
                  <a:xfrm>
                    <a:off x="957600" y="203256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99" name="직사각형 26"/>
                <p:cNvSpPr/>
                <p:nvPr/>
              </p:nvSpPr>
              <p:spPr>
                <a:xfrm>
                  <a:off x="1288440" y="1928880"/>
                  <a:ext cx="4856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미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00" name="직선 연결선 24"/>
              <p:cNvSpPr/>
              <p:nvPr/>
            </p:nvSpPr>
            <p:spPr>
              <a:xfrm>
                <a:off x="3214440" y="2200320"/>
                <a:ext cx="52880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01" name="그룹 173"/>
          <p:cNvGrpSpPr/>
          <p:nvPr/>
        </p:nvGrpSpPr>
        <p:grpSpPr>
          <a:xfrm>
            <a:off x="285840" y="4286160"/>
            <a:ext cx="8572320" cy="2571840"/>
            <a:chOff x="285840" y="4286160"/>
            <a:chExt cx="8572320" cy="2571840"/>
          </a:xfrm>
        </p:grpSpPr>
        <p:grpSp>
          <p:nvGrpSpPr>
            <p:cNvPr id="1302" name="그룹 63"/>
            <p:cNvGrpSpPr/>
            <p:nvPr/>
          </p:nvGrpSpPr>
          <p:grpSpPr>
            <a:xfrm>
              <a:off x="285840" y="4286160"/>
              <a:ext cx="8572320" cy="2571840"/>
              <a:chOff x="285840" y="4286160"/>
              <a:chExt cx="8572320" cy="2571840"/>
            </a:xfrm>
          </p:grpSpPr>
          <p:grpSp>
            <p:nvGrpSpPr>
              <p:cNvPr id="1303" name="그룹 91"/>
              <p:cNvGrpSpPr/>
              <p:nvPr/>
            </p:nvGrpSpPr>
            <p:grpSpPr>
              <a:xfrm>
                <a:off x="285840" y="4489200"/>
                <a:ext cx="8572320" cy="2368800"/>
                <a:chOff x="285840" y="4489200"/>
                <a:chExt cx="8572320" cy="2368800"/>
              </a:xfrm>
            </p:grpSpPr>
            <p:pic>
              <p:nvPicPr>
                <p:cNvPr id="1304" name="Picture 5" descr="233"/>
                <p:cNvPicPr/>
                <p:nvPr/>
              </p:nvPicPr>
              <p:blipFill>
                <a:blip r:embed="rId5"/>
                <a:srcRect l="0" t="0" r="24313" b="0"/>
                <a:stretch/>
              </p:blipFill>
              <p:spPr>
                <a:xfrm>
                  <a:off x="285840" y="4489200"/>
                  <a:ext cx="8501040" cy="23688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305" name="직사각형 45"/>
                <p:cNvSpPr/>
                <p:nvPr/>
              </p:nvSpPr>
              <p:spPr>
                <a:xfrm>
                  <a:off x="1143000" y="4785840"/>
                  <a:ext cx="7715160" cy="1877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물리적 처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음운적 처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적 처리 중에서 물리적 처리가 가장 피상적이고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적 처리가 가장 심층적인 수준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예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 Upanisade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정보를 심층적인 수준에서 처리할수록 잘 기억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중요한 정보일수록 심층적인 수준에서 처리해야 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06" name="그룹 44"/>
              <p:cNvGrpSpPr/>
              <p:nvPr/>
            </p:nvGrpSpPr>
            <p:grpSpPr>
              <a:xfrm>
                <a:off x="928440" y="4286160"/>
                <a:ext cx="7574040" cy="551160"/>
                <a:chOff x="928440" y="4286160"/>
                <a:chExt cx="7574040" cy="551160"/>
              </a:xfrm>
            </p:grpSpPr>
            <p:grpSp>
              <p:nvGrpSpPr>
                <p:cNvPr id="1307" name="그룹 91"/>
                <p:cNvGrpSpPr/>
                <p:nvPr/>
              </p:nvGrpSpPr>
              <p:grpSpPr>
                <a:xfrm>
                  <a:off x="928440" y="4286160"/>
                  <a:ext cx="845640" cy="551160"/>
                  <a:chOff x="928440" y="4286160"/>
                  <a:chExt cx="845640" cy="551160"/>
                </a:xfrm>
              </p:grpSpPr>
              <p:grpSp>
                <p:nvGrpSpPr>
                  <p:cNvPr id="1308" name="그룹 34"/>
                  <p:cNvGrpSpPr/>
                  <p:nvPr/>
                </p:nvGrpSpPr>
                <p:grpSpPr>
                  <a:xfrm>
                    <a:off x="928440" y="4390200"/>
                    <a:ext cx="349200" cy="343800"/>
                    <a:chOff x="928440" y="4390200"/>
                    <a:chExt cx="349200" cy="343800"/>
                  </a:xfrm>
                </p:grpSpPr>
                <p:pic>
                  <p:nvPicPr>
                    <p:cNvPr id="1309" name="Picture 177" descr="bull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928440" y="4394880"/>
                      <a:ext cx="349200" cy="339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310" name="TextBox 36"/>
                    <p:cNvSpPr/>
                    <p:nvPr/>
                  </p:nvSpPr>
                  <p:spPr>
                    <a:xfrm>
                      <a:off x="957960" y="43902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11" name="직사각형 41"/>
                  <p:cNvSpPr/>
                  <p:nvPr/>
                </p:nvSpPr>
                <p:spPr>
                  <a:xfrm>
                    <a:off x="1288440" y="4286160"/>
                    <a:ext cx="485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특징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12" name="직선 연결선 39"/>
                <p:cNvSpPr/>
                <p:nvPr/>
              </p:nvSpPr>
              <p:spPr>
                <a:xfrm flipV="1">
                  <a:off x="6286320" y="455868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13" name="타원 35"/>
            <p:cNvGrpSpPr/>
            <p:nvPr/>
          </p:nvGrpSpPr>
          <p:grpSpPr>
            <a:xfrm>
              <a:off x="932760" y="4943520"/>
              <a:ext cx="225360" cy="231480"/>
              <a:chOff x="932760" y="4943520"/>
              <a:chExt cx="225360" cy="231480"/>
            </a:xfrm>
          </p:grpSpPr>
          <p:pic>
            <p:nvPicPr>
              <p:cNvPr id="1314" name="타원 35" descr=""/>
              <p:cNvPicPr/>
              <p:nvPr/>
            </p:nvPicPr>
            <p:blipFill>
              <a:blip r:embed="rId7"/>
              <a:stretch/>
            </p:blipFill>
            <p:spPr>
              <a:xfrm>
                <a:off x="932760" y="49435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15" name=""/>
              <p:cNvSpPr/>
              <p:nvPr/>
            </p:nvSpPr>
            <p:spPr>
              <a:xfrm rot="10800000">
                <a:off x="1014480" y="5000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6" name="타원 46"/>
            <p:cNvGrpSpPr/>
            <p:nvPr/>
          </p:nvGrpSpPr>
          <p:grpSpPr>
            <a:xfrm>
              <a:off x="932760" y="5779080"/>
              <a:ext cx="225360" cy="231480"/>
              <a:chOff x="932760" y="5779080"/>
              <a:chExt cx="225360" cy="231480"/>
            </a:xfrm>
          </p:grpSpPr>
          <p:pic>
            <p:nvPicPr>
              <p:cNvPr id="1317" name="타원 46" descr=""/>
              <p:cNvPicPr/>
              <p:nvPr/>
            </p:nvPicPr>
            <p:blipFill>
              <a:blip r:embed="rId8"/>
              <a:stretch/>
            </p:blipFill>
            <p:spPr>
              <a:xfrm>
                <a:off x="932760" y="57790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18" name=""/>
              <p:cNvSpPr/>
              <p:nvPr/>
            </p:nvSpPr>
            <p:spPr>
              <a:xfrm rot="10800000">
                <a:off x="1014480" y="58330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9" name="타원 38"/>
            <p:cNvGrpSpPr/>
            <p:nvPr/>
          </p:nvGrpSpPr>
          <p:grpSpPr>
            <a:xfrm>
              <a:off x="932760" y="6297120"/>
              <a:ext cx="225360" cy="237600"/>
              <a:chOff x="932760" y="6297120"/>
              <a:chExt cx="225360" cy="237600"/>
            </a:xfrm>
          </p:grpSpPr>
          <p:pic>
            <p:nvPicPr>
              <p:cNvPr id="1320" name="타원 38" descr=""/>
              <p:cNvPicPr/>
              <p:nvPr/>
            </p:nvPicPr>
            <p:blipFill>
              <a:blip r:embed="rId9"/>
              <a:stretch/>
            </p:blipFill>
            <p:spPr>
              <a:xfrm>
                <a:off x="932760" y="629712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21" name=""/>
              <p:cNvSpPr/>
              <p:nvPr/>
            </p:nvSpPr>
            <p:spPr>
              <a:xfrm rot="10800000">
                <a:off x="1014480" y="63568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22" name="타원 47"/>
          <p:cNvGrpSpPr/>
          <p:nvPr/>
        </p:nvGrpSpPr>
        <p:grpSpPr>
          <a:xfrm>
            <a:off x="933480" y="2603520"/>
            <a:ext cx="225360" cy="231840"/>
            <a:chOff x="933480" y="2603520"/>
            <a:chExt cx="225360" cy="231840"/>
          </a:xfrm>
        </p:grpSpPr>
        <p:pic>
          <p:nvPicPr>
            <p:cNvPr id="1323" name="타원 47" descr=""/>
            <p:cNvPicPr/>
            <p:nvPr/>
          </p:nvPicPr>
          <p:blipFill>
            <a:blip r:embed="rId10"/>
            <a:stretch/>
          </p:blipFill>
          <p:spPr>
            <a:xfrm>
              <a:off x="933480" y="260352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4" name=""/>
            <p:cNvSpPr/>
            <p:nvPr/>
          </p:nvSpPr>
          <p:spPr>
            <a:xfrm rot="10800000">
              <a:off x="1014480" y="26575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5" name="타원 49"/>
          <p:cNvGrpSpPr/>
          <p:nvPr/>
        </p:nvGrpSpPr>
        <p:grpSpPr>
          <a:xfrm>
            <a:off x="933480" y="3029040"/>
            <a:ext cx="225360" cy="231840"/>
            <a:chOff x="933480" y="3029040"/>
            <a:chExt cx="225360" cy="231840"/>
          </a:xfrm>
        </p:grpSpPr>
        <p:pic>
          <p:nvPicPr>
            <p:cNvPr id="1326" name="타원 49" descr=""/>
            <p:cNvPicPr/>
            <p:nvPr/>
          </p:nvPicPr>
          <p:blipFill>
            <a:blip r:embed="rId11"/>
            <a:stretch/>
          </p:blipFill>
          <p:spPr>
            <a:xfrm>
              <a:off x="933480" y="302904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7" name=""/>
            <p:cNvSpPr/>
            <p:nvPr/>
          </p:nvSpPr>
          <p:spPr>
            <a:xfrm rot="10800000">
              <a:off x="1014480" y="308628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8" name="타원 50"/>
          <p:cNvGrpSpPr/>
          <p:nvPr/>
        </p:nvGrpSpPr>
        <p:grpSpPr>
          <a:xfrm>
            <a:off x="933480" y="3859200"/>
            <a:ext cx="225360" cy="231840"/>
            <a:chOff x="933480" y="3859200"/>
            <a:chExt cx="225360" cy="231840"/>
          </a:xfrm>
        </p:grpSpPr>
        <p:pic>
          <p:nvPicPr>
            <p:cNvPr id="1329" name="타원 50" descr=""/>
            <p:cNvPicPr/>
            <p:nvPr/>
          </p:nvPicPr>
          <p:blipFill>
            <a:blip r:embed="rId12"/>
            <a:stretch/>
          </p:blipFill>
          <p:spPr>
            <a:xfrm>
              <a:off x="933480" y="385920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0" name=""/>
            <p:cNvSpPr/>
            <p:nvPr/>
          </p:nvSpPr>
          <p:spPr>
            <a:xfrm rot="10800000">
              <a:off x="1014480" y="39164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1" name="TextBox 12" descr=""/>
          <p:cNvPicPr/>
          <p:nvPr/>
        </p:nvPicPr>
        <p:blipFill>
          <a:blip r:embed="rId1"/>
          <a:stretch/>
        </p:blipFill>
        <p:spPr>
          <a:xfrm>
            <a:off x="3749760" y="506520"/>
            <a:ext cx="5449680" cy="590400"/>
          </a:xfrm>
          <a:prstGeom prst="rect">
            <a:avLst/>
          </a:prstGeom>
          <a:ln w="0">
            <a:noFill/>
          </a:ln>
        </p:spPr>
      </p:pic>
      <p:grpSp>
        <p:nvGrpSpPr>
          <p:cNvPr id="1332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33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34" name="직사각형 13"/>
              <p:cNvSpPr/>
              <p:nvPr/>
            </p:nvSpPr>
            <p:spPr>
              <a:xfrm>
                <a:off x="1875600" y="1385640"/>
                <a:ext cx="3218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신경망 모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연결망 혹은 병렬분산처리모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5" name="직선 연결선 10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3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3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3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4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41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2" name="그룹 63"/>
          <p:cNvGrpSpPr/>
          <p:nvPr/>
        </p:nvGrpSpPr>
        <p:grpSpPr>
          <a:xfrm>
            <a:off x="285840" y="2000160"/>
            <a:ext cx="8786880" cy="2357640"/>
            <a:chOff x="285840" y="2000160"/>
            <a:chExt cx="8786880" cy="2357640"/>
          </a:xfrm>
        </p:grpSpPr>
        <p:grpSp>
          <p:nvGrpSpPr>
            <p:cNvPr id="1343" name="그룹 91"/>
            <p:cNvGrpSpPr/>
            <p:nvPr/>
          </p:nvGrpSpPr>
          <p:grpSpPr>
            <a:xfrm>
              <a:off x="285840" y="2203200"/>
              <a:ext cx="8786880" cy="2154600"/>
              <a:chOff x="285840" y="2203200"/>
              <a:chExt cx="8786880" cy="2154600"/>
            </a:xfrm>
          </p:grpSpPr>
          <p:pic>
            <p:nvPicPr>
              <p:cNvPr id="1344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203200"/>
                <a:ext cx="8501400" cy="215460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345" name="직사각형 32"/>
              <p:cNvSpPr/>
              <p:nvPr/>
            </p:nvSpPr>
            <p:spPr>
              <a:xfrm>
                <a:off x="1143000" y="2545920"/>
                <a:ext cx="7929720" cy="132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를 두뇌의 구조와 기능에 비추어 설명하는 모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즉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를 노드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뉴런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의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상호연결망이라고 가정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연결주의 모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계열적으로 작동하는 것이 아니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간의 두뇌는 정보를 동시에 처리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병렬체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6" name="그룹 44"/>
            <p:cNvGrpSpPr/>
            <p:nvPr/>
          </p:nvGrpSpPr>
          <p:grpSpPr>
            <a:xfrm>
              <a:off x="928440" y="2000160"/>
              <a:ext cx="7574040" cy="551160"/>
              <a:chOff x="928440" y="2000160"/>
              <a:chExt cx="7574040" cy="551160"/>
            </a:xfrm>
          </p:grpSpPr>
          <p:grpSp>
            <p:nvGrpSpPr>
              <p:cNvPr id="1347" name="그룹 91"/>
              <p:cNvGrpSpPr/>
              <p:nvPr/>
            </p:nvGrpSpPr>
            <p:grpSpPr>
              <a:xfrm>
                <a:off x="928440" y="2000160"/>
                <a:ext cx="845640" cy="551160"/>
                <a:chOff x="928440" y="2000160"/>
                <a:chExt cx="845640" cy="551160"/>
              </a:xfrm>
            </p:grpSpPr>
            <p:grpSp>
              <p:nvGrpSpPr>
                <p:cNvPr id="1348" name="그룹 34"/>
                <p:cNvGrpSpPr/>
                <p:nvPr/>
              </p:nvGrpSpPr>
              <p:grpSpPr>
                <a:xfrm>
                  <a:off x="928440" y="2103840"/>
                  <a:ext cx="348840" cy="343440"/>
                  <a:chOff x="928440" y="2103840"/>
                  <a:chExt cx="348840" cy="343440"/>
                </a:xfrm>
              </p:grpSpPr>
              <p:pic>
                <p:nvPicPr>
                  <p:cNvPr id="1349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108520"/>
                    <a:ext cx="348840" cy="33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350" name="TextBox 36"/>
                  <p:cNvSpPr/>
                  <p:nvPr/>
                </p:nvSpPr>
                <p:spPr>
                  <a:xfrm>
                    <a:off x="957600" y="210384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51" name="직사각형 26"/>
                <p:cNvSpPr/>
                <p:nvPr/>
              </p:nvSpPr>
              <p:spPr>
                <a:xfrm>
                  <a:off x="1288440" y="2000160"/>
                  <a:ext cx="4856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미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52" name="직선 연결선 24"/>
              <p:cNvSpPr/>
              <p:nvPr/>
            </p:nvSpPr>
            <p:spPr>
              <a:xfrm>
                <a:off x="3214440" y="2271600"/>
                <a:ext cx="52880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53" name="그룹 173"/>
          <p:cNvGrpSpPr/>
          <p:nvPr/>
        </p:nvGrpSpPr>
        <p:grpSpPr>
          <a:xfrm>
            <a:off x="285840" y="4240080"/>
            <a:ext cx="8572320" cy="2672280"/>
            <a:chOff x="285840" y="4240080"/>
            <a:chExt cx="8572320" cy="2672280"/>
          </a:xfrm>
        </p:grpSpPr>
        <p:grpSp>
          <p:nvGrpSpPr>
            <p:cNvPr id="1354" name="그룹 63"/>
            <p:cNvGrpSpPr/>
            <p:nvPr/>
          </p:nvGrpSpPr>
          <p:grpSpPr>
            <a:xfrm>
              <a:off x="285840" y="4240080"/>
              <a:ext cx="8572320" cy="2672280"/>
              <a:chOff x="285840" y="4240080"/>
              <a:chExt cx="8572320" cy="2672280"/>
            </a:xfrm>
          </p:grpSpPr>
          <p:grpSp>
            <p:nvGrpSpPr>
              <p:cNvPr id="1355" name="그룹 91"/>
              <p:cNvGrpSpPr/>
              <p:nvPr/>
            </p:nvGrpSpPr>
            <p:grpSpPr>
              <a:xfrm>
                <a:off x="285840" y="4443120"/>
                <a:ext cx="8572320" cy="2469240"/>
                <a:chOff x="285840" y="4443120"/>
                <a:chExt cx="8572320" cy="2469240"/>
              </a:xfrm>
            </p:grpSpPr>
            <p:pic>
              <p:nvPicPr>
                <p:cNvPr id="1356" name="Picture 5" descr="233"/>
                <p:cNvPicPr/>
                <p:nvPr/>
              </p:nvPicPr>
              <p:blipFill>
                <a:blip r:embed="rId5"/>
                <a:srcRect l="0" t="0" r="24313" b="0"/>
                <a:stretch/>
              </p:blipFill>
              <p:spPr>
                <a:xfrm>
                  <a:off x="285840" y="4443120"/>
                  <a:ext cx="8501040" cy="23688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357" name="직사각형 45"/>
                <p:cNvSpPr/>
                <p:nvPr/>
              </p:nvSpPr>
              <p:spPr>
                <a:xfrm>
                  <a:off x="1143000" y="4623840"/>
                  <a:ext cx="7715160" cy="228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신경망에는 인지적 조작이 동시에 병렬적으로 처리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병렬분산처리모형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식은 노드 사이의 연결에 저장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cf.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정보처리는 여러 저장고에 저장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이란 연결을 형성하고 강화하는 과정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58" name="그룹 44"/>
              <p:cNvGrpSpPr/>
              <p:nvPr/>
            </p:nvGrpSpPr>
            <p:grpSpPr>
              <a:xfrm>
                <a:off x="928440" y="4240080"/>
                <a:ext cx="7574040" cy="551160"/>
                <a:chOff x="928440" y="4240080"/>
                <a:chExt cx="7574040" cy="551160"/>
              </a:xfrm>
            </p:grpSpPr>
            <p:grpSp>
              <p:nvGrpSpPr>
                <p:cNvPr id="1359" name="그룹 91"/>
                <p:cNvGrpSpPr/>
                <p:nvPr/>
              </p:nvGrpSpPr>
              <p:grpSpPr>
                <a:xfrm>
                  <a:off x="928440" y="4240080"/>
                  <a:ext cx="845640" cy="551160"/>
                  <a:chOff x="928440" y="4240080"/>
                  <a:chExt cx="845640" cy="551160"/>
                </a:xfrm>
              </p:grpSpPr>
              <p:grpSp>
                <p:nvGrpSpPr>
                  <p:cNvPr id="1360" name="그룹 34"/>
                  <p:cNvGrpSpPr/>
                  <p:nvPr/>
                </p:nvGrpSpPr>
                <p:grpSpPr>
                  <a:xfrm>
                    <a:off x="928440" y="4344120"/>
                    <a:ext cx="348840" cy="343800"/>
                    <a:chOff x="928440" y="4344120"/>
                    <a:chExt cx="348840" cy="343800"/>
                  </a:xfrm>
                </p:grpSpPr>
                <p:pic>
                  <p:nvPicPr>
                    <p:cNvPr id="1361" name="Picture 177" descr="bull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928440" y="4352040"/>
                      <a:ext cx="348840" cy="335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362" name="TextBox 36"/>
                    <p:cNvSpPr/>
                    <p:nvPr/>
                  </p:nvSpPr>
                  <p:spPr>
                    <a:xfrm>
                      <a:off x="957600" y="43441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63" name="직사각형 41"/>
                  <p:cNvSpPr/>
                  <p:nvPr/>
                </p:nvSpPr>
                <p:spPr>
                  <a:xfrm>
                    <a:off x="1288440" y="4240080"/>
                    <a:ext cx="485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특징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64" name="직선 연결선 39"/>
                <p:cNvSpPr/>
                <p:nvPr/>
              </p:nvSpPr>
              <p:spPr>
                <a:xfrm flipV="1">
                  <a:off x="6286320" y="451260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65" name="타원 35"/>
            <p:cNvGrpSpPr/>
            <p:nvPr/>
          </p:nvGrpSpPr>
          <p:grpSpPr>
            <a:xfrm>
              <a:off x="932760" y="4901040"/>
              <a:ext cx="225360" cy="231480"/>
              <a:chOff x="932760" y="4901040"/>
              <a:chExt cx="225360" cy="231480"/>
            </a:xfrm>
          </p:grpSpPr>
          <p:pic>
            <p:nvPicPr>
              <p:cNvPr id="1366" name="타원 35" descr=""/>
              <p:cNvPicPr/>
              <p:nvPr/>
            </p:nvPicPr>
            <p:blipFill>
              <a:blip r:embed="rId7"/>
              <a:stretch/>
            </p:blipFill>
            <p:spPr>
              <a:xfrm>
                <a:off x="932760" y="49010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67" name=""/>
              <p:cNvSpPr/>
              <p:nvPr/>
            </p:nvSpPr>
            <p:spPr>
              <a:xfrm rot="10800000">
                <a:off x="1014480" y="4955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68" name="타원 46"/>
            <p:cNvGrpSpPr/>
            <p:nvPr/>
          </p:nvGrpSpPr>
          <p:grpSpPr>
            <a:xfrm>
              <a:off x="932760" y="5986080"/>
              <a:ext cx="225360" cy="231480"/>
              <a:chOff x="932760" y="5986080"/>
              <a:chExt cx="225360" cy="231480"/>
            </a:xfrm>
          </p:grpSpPr>
          <p:pic>
            <p:nvPicPr>
              <p:cNvPr id="1369" name="타원 46" descr=""/>
              <p:cNvPicPr/>
              <p:nvPr/>
            </p:nvPicPr>
            <p:blipFill>
              <a:blip r:embed="rId8"/>
              <a:stretch/>
            </p:blipFill>
            <p:spPr>
              <a:xfrm>
                <a:off x="932760" y="59860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70" name=""/>
              <p:cNvSpPr/>
              <p:nvPr/>
            </p:nvSpPr>
            <p:spPr>
              <a:xfrm rot="10800000">
                <a:off x="1014480" y="6040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71" name="타원 38"/>
            <p:cNvGrpSpPr/>
            <p:nvPr/>
          </p:nvGrpSpPr>
          <p:grpSpPr>
            <a:xfrm>
              <a:off x="932760" y="5412960"/>
              <a:ext cx="225360" cy="231480"/>
              <a:chOff x="932760" y="5412960"/>
              <a:chExt cx="225360" cy="231480"/>
            </a:xfrm>
          </p:grpSpPr>
          <p:pic>
            <p:nvPicPr>
              <p:cNvPr id="1372" name="타원 38" descr=""/>
              <p:cNvPicPr/>
              <p:nvPr/>
            </p:nvPicPr>
            <p:blipFill>
              <a:blip r:embed="rId9"/>
              <a:stretch/>
            </p:blipFill>
            <p:spPr>
              <a:xfrm>
                <a:off x="932760" y="54129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73" name=""/>
              <p:cNvSpPr/>
              <p:nvPr/>
            </p:nvSpPr>
            <p:spPr>
              <a:xfrm rot="10800000">
                <a:off x="1014480" y="5468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74" name="타원 40"/>
          <p:cNvGrpSpPr/>
          <p:nvPr/>
        </p:nvGrpSpPr>
        <p:grpSpPr>
          <a:xfrm>
            <a:off x="933480" y="2719440"/>
            <a:ext cx="225360" cy="231840"/>
            <a:chOff x="933480" y="2719440"/>
            <a:chExt cx="225360" cy="231840"/>
          </a:xfrm>
        </p:grpSpPr>
        <p:pic>
          <p:nvPicPr>
            <p:cNvPr id="1375" name="타원 40" descr=""/>
            <p:cNvPicPr/>
            <p:nvPr/>
          </p:nvPicPr>
          <p:blipFill>
            <a:blip r:embed="rId10"/>
            <a:stretch/>
          </p:blipFill>
          <p:spPr>
            <a:xfrm>
              <a:off x="933480" y="271944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6" name=""/>
            <p:cNvSpPr/>
            <p:nvPr/>
          </p:nvSpPr>
          <p:spPr>
            <a:xfrm rot="10800000">
              <a:off x="1014480" y="27734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7" name="타원 43"/>
          <p:cNvGrpSpPr/>
          <p:nvPr/>
        </p:nvGrpSpPr>
        <p:grpSpPr>
          <a:xfrm>
            <a:off x="933480" y="3505320"/>
            <a:ext cx="225360" cy="231480"/>
            <a:chOff x="933480" y="3505320"/>
            <a:chExt cx="225360" cy="231480"/>
          </a:xfrm>
        </p:grpSpPr>
        <p:pic>
          <p:nvPicPr>
            <p:cNvPr id="1378" name="타원 43" descr=""/>
            <p:cNvPicPr/>
            <p:nvPr/>
          </p:nvPicPr>
          <p:blipFill>
            <a:blip r:embed="rId11"/>
            <a:stretch/>
          </p:blipFill>
          <p:spPr>
            <a:xfrm>
              <a:off x="933480" y="3505320"/>
              <a:ext cx="225360" cy="23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9" name=""/>
            <p:cNvSpPr/>
            <p:nvPr/>
          </p:nvSpPr>
          <p:spPr>
            <a:xfrm rot="10800000">
              <a:off x="1014480" y="35593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1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0" name="TextBox 12" descr=""/>
          <p:cNvPicPr/>
          <p:nvPr/>
        </p:nvPicPr>
        <p:blipFill>
          <a:blip r:embed="rId1"/>
          <a:stretch/>
        </p:blipFill>
        <p:spPr>
          <a:xfrm>
            <a:off x="3749760" y="506520"/>
            <a:ext cx="5449680" cy="590400"/>
          </a:xfrm>
          <a:prstGeom prst="rect">
            <a:avLst/>
          </a:prstGeom>
          <a:ln w="0">
            <a:noFill/>
          </a:ln>
        </p:spPr>
      </p:pic>
      <p:grpSp>
        <p:nvGrpSpPr>
          <p:cNvPr id="1381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382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83" name="직사각형 13"/>
              <p:cNvSpPr/>
              <p:nvPr/>
            </p:nvSpPr>
            <p:spPr>
              <a:xfrm>
                <a:off x="1334880" y="1385640"/>
                <a:ext cx="1003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이중부호모형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4" name="직선 연결선 10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8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8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88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8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90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1" name="그룹 39"/>
          <p:cNvGrpSpPr/>
          <p:nvPr/>
        </p:nvGrpSpPr>
        <p:grpSpPr>
          <a:xfrm>
            <a:off x="642960" y="2357280"/>
            <a:ext cx="8215200" cy="2928960"/>
            <a:chOff x="642960" y="2357280"/>
            <a:chExt cx="8215200" cy="2928960"/>
          </a:xfrm>
        </p:grpSpPr>
        <p:grpSp>
          <p:nvGrpSpPr>
            <p:cNvPr id="1392" name="그룹 123"/>
            <p:cNvGrpSpPr/>
            <p:nvPr/>
          </p:nvGrpSpPr>
          <p:grpSpPr>
            <a:xfrm>
              <a:off x="642960" y="2357280"/>
              <a:ext cx="8215200" cy="2928960"/>
              <a:chOff x="642960" y="2357280"/>
              <a:chExt cx="8215200" cy="2928960"/>
            </a:xfrm>
          </p:grpSpPr>
          <p:pic>
            <p:nvPicPr>
              <p:cNvPr id="1393" name="Picture 5" descr="233"/>
              <p:cNvPicPr/>
              <p:nvPr/>
            </p:nvPicPr>
            <p:blipFill>
              <a:blip r:embed="rId3"/>
              <a:srcRect l="2544" t="0" r="24313" b="0"/>
              <a:stretch/>
            </p:blipFill>
            <p:spPr>
              <a:xfrm>
                <a:off x="642960" y="2357280"/>
                <a:ext cx="8072640" cy="29289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394" name="직사각형 50"/>
              <p:cNvSpPr/>
              <p:nvPr/>
            </p:nvSpPr>
            <p:spPr>
              <a:xfrm>
                <a:off x="928440" y="2620800"/>
                <a:ext cx="7929720" cy="228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는 기억에 언어적 형태와 시각적 형태로 저장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두 가지 형태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언어적 형태와 시각적 형태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로 표상될 수 있는 정보는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한 가지 방식으로만 저장되는 정보보다 잘 기억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결국 추상적 개념보다 구체적 개념이 더 잘 기억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95" name="타원 52"/>
              <p:cNvGrpSpPr/>
              <p:nvPr/>
            </p:nvGrpSpPr>
            <p:grpSpPr>
              <a:xfrm>
                <a:off x="908280" y="2901600"/>
                <a:ext cx="225360" cy="237600"/>
                <a:chOff x="908280" y="2901600"/>
                <a:chExt cx="225360" cy="237600"/>
              </a:xfrm>
            </p:grpSpPr>
            <p:pic>
              <p:nvPicPr>
                <p:cNvPr id="1396" name="타원 52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08280" y="2901600"/>
                  <a:ext cx="225360" cy="237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97" name=""/>
                <p:cNvSpPr/>
                <p:nvPr/>
              </p:nvSpPr>
              <p:spPr>
                <a:xfrm rot="10800000">
                  <a:off x="987480" y="296100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8" name="타원 48"/>
            <p:cNvGrpSpPr/>
            <p:nvPr/>
          </p:nvGrpSpPr>
          <p:grpSpPr>
            <a:xfrm>
              <a:off x="908280" y="3547800"/>
              <a:ext cx="225360" cy="231480"/>
              <a:chOff x="908280" y="3547800"/>
              <a:chExt cx="225360" cy="231480"/>
            </a:xfrm>
          </p:grpSpPr>
          <p:pic>
            <p:nvPicPr>
              <p:cNvPr id="1399" name="타원 48" descr=""/>
              <p:cNvPicPr/>
              <p:nvPr/>
            </p:nvPicPr>
            <p:blipFill>
              <a:blip r:embed="rId5"/>
              <a:stretch/>
            </p:blipFill>
            <p:spPr>
              <a:xfrm>
                <a:off x="908280" y="3547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00" name=""/>
              <p:cNvSpPr/>
              <p:nvPr/>
            </p:nvSpPr>
            <p:spPr>
              <a:xfrm rot="10800000">
                <a:off x="987480" y="36039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01" name="타원 17"/>
            <p:cNvGrpSpPr/>
            <p:nvPr/>
          </p:nvGrpSpPr>
          <p:grpSpPr>
            <a:xfrm>
              <a:off x="908280" y="4505040"/>
              <a:ext cx="225360" cy="231480"/>
              <a:chOff x="908280" y="4505040"/>
              <a:chExt cx="225360" cy="231480"/>
            </a:xfrm>
          </p:grpSpPr>
          <p:pic>
            <p:nvPicPr>
              <p:cNvPr id="1402" name="타원 17" descr=""/>
              <p:cNvPicPr/>
              <p:nvPr/>
            </p:nvPicPr>
            <p:blipFill>
              <a:blip r:embed="rId6"/>
              <a:stretch/>
            </p:blipFill>
            <p:spPr>
              <a:xfrm>
                <a:off x="908280" y="45050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03" name=""/>
              <p:cNvSpPr/>
              <p:nvPr/>
            </p:nvSpPr>
            <p:spPr>
              <a:xfrm rot="10800000">
                <a:off x="987480" y="4559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1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4" name="TextBox 12" descr=""/>
          <p:cNvPicPr/>
          <p:nvPr/>
        </p:nvPicPr>
        <p:blipFill>
          <a:blip r:embed="rId1"/>
          <a:stretch/>
        </p:blipFill>
        <p:spPr>
          <a:xfrm>
            <a:off x="5619600" y="506520"/>
            <a:ext cx="35798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405" name="그룹 35"/>
          <p:cNvGrpSpPr/>
          <p:nvPr/>
        </p:nvGrpSpPr>
        <p:grpSpPr>
          <a:xfrm>
            <a:off x="714240" y="1285920"/>
            <a:ext cx="8429760" cy="468360"/>
            <a:chOff x="714240" y="1285920"/>
            <a:chExt cx="8429760" cy="468360"/>
          </a:xfrm>
        </p:grpSpPr>
        <p:grpSp>
          <p:nvGrpSpPr>
            <p:cNvPr id="1406" name="그룹 48"/>
            <p:cNvGrpSpPr/>
            <p:nvPr/>
          </p:nvGrpSpPr>
          <p:grpSpPr>
            <a:xfrm>
              <a:off x="714240" y="1352520"/>
              <a:ext cx="8429760" cy="401760"/>
              <a:chOff x="714240" y="1352520"/>
              <a:chExt cx="8429760" cy="401760"/>
            </a:xfrm>
          </p:grpSpPr>
          <p:sp>
            <p:nvSpPr>
              <p:cNvPr id="1407" name="직사각형 13"/>
              <p:cNvSpPr/>
              <p:nvPr/>
            </p:nvSpPr>
            <p:spPr>
              <a:xfrm>
                <a:off x="1403640" y="1352520"/>
                <a:ext cx="2422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메타인지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meta-cognition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8" name="직선 연결선 43"/>
              <p:cNvSpPr/>
              <p:nvPr/>
            </p:nvSpPr>
            <p:spPr>
              <a:xfrm>
                <a:off x="714240" y="175284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09" name="그룹 49"/>
            <p:cNvGrpSpPr/>
            <p:nvPr/>
          </p:nvGrpSpPr>
          <p:grpSpPr>
            <a:xfrm>
              <a:off x="742680" y="1361880"/>
              <a:ext cx="328320" cy="319320"/>
              <a:chOff x="742680" y="1361880"/>
              <a:chExt cx="328320" cy="319320"/>
            </a:xfrm>
          </p:grpSpPr>
          <p:sp>
            <p:nvSpPr>
              <p:cNvPr id="1410" name="AutoShape 4"/>
              <p:cNvSpPr/>
              <p:nvPr/>
            </p:nvSpPr>
            <p:spPr>
              <a:xfrm>
                <a:off x="742680" y="136188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11" name="Freeform 5"/>
              <p:cNvGrpSpPr/>
              <p:nvPr/>
            </p:nvGrpSpPr>
            <p:grpSpPr>
              <a:xfrm>
                <a:off x="755280" y="1377360"/>
                <a:ext cx="176760" cy="171000"/>
                <a:chOff x="755280" y="1377360"/>
                <a:chExt cx="176760" cy="171000"/>
              </a:xfrm>
            </p:grpSpPr>
            <p:pic>
              <p:nvPicPr>
                <p:cNvPr id="141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755280" y="1377360"/>
                  <a:ext cx="17676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13" name=""/>
                <p:cNvSpPr/>
                <p:nvPr/>
              </p:nvSpPr>
              <p:spPr>
                <a:xfrm>
                  <a:off x="762840" y="138204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14" name="TextBox 88"/>
            <p:cNvSpPr/>
            <p:nvPr/>
          </p:nvSpPr>
          <p:spPr>
            <a:xfrm>
              <a:off x="749880" y="12859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5" name="그룹 173"/>
          <p:cNvGrpSpPr/>
          <p:nvPr/>
        </p:nvGrpSpPr>
        <p:grpSpPr>
          <a:xfrm>
            <a:off x="285840" y="1928880"/>
            <a:ext cx="8572320" cy="1785960"/>
            <a:chOff x="285840" y="1928880"/>
            <a:chExt cx="8572320" cy="1785960"/>
          </a:xfrm>
        </p:grpSpPr>
        <p:grpSp>
          <p:nvGrpSpPr>
            <p:cNvPr id="1416" name="그룹 63"/>
            <p:cNvGrpSpPr/>
            <p:nvPr/>
          </p:nvGrpSpPr>
          <p:grpSpPr>
            <a:xfrm>
              <a:off x="285840" y="1928880"/>
              <a:ext cx="8572320" cy="1785960"/>
              <a:chOff x="285840" y="1928880"/>
              <a:chExt cx="8572320" cy="1785960"/>
            </a:xfrm>
          </p:grpSpPr>
          <p:grpSp>
            <p:nvGrpSpPr>
              <p:cNvPr id="1417" name="그룹 91"/>
              <p:cNvGrpSpPr/>
              <p:nvPr/>
            </p:nvGrpSpPr>
            <p:grpSpPr>
              <a:xfrm>
                <a:off x="285840" y="2132280"/>
                <a:ext cx="8572320" cy="1582560"/>
                <a:chOff x="285840" y="2132280"/>
                <a:chExt cx="8572320" cy="1582560"/>
              </a:xfrm>
            </p:grpSpPr>
            <p:pic>
              <p:nvPicPr>
                <p:cNvPr id="1418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132280"/>
                  <a:ext cx="8501040" cy="15825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419" name="직사각형 62"/>
                <p:cNvSpPr/>
                <p:nvPr/>
              </p:nvSpPr>
              <p:spPr>
                <a:xfrm>
                  <a:off x="1143000" y="2313000"/>
                  <a:ext cx="7715160" cy="119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자신의 사고에 대한 지식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자신의 능력과 약점에 대한 지식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전략을 언제 어느 장면에서 적용할 것인가에 대한 지식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20" name="그룹 44"/>
              <p:cNvGrpSpPr/>
              <p:nvPr/>
            </p:nvGrpSpPr>
            <p:grpSpPr>
              <a:xfrm>
                <a:off x="928440" y="1928880"/>
                <a:ext cx="7574040" cy="551160"/>
                <a:chOff x="928440" y="1928880"/>
                <a:chExt cx="7574040" cy="551160"/>
              </a:xfrm>
            </p:grpSpPr>
            <p:grpSp>
              <p:nvGrpSpPr>
                <p:cNvPr id="1421" name="그룹 91"/>
                <p:cNvGrpSpPr/>
                <p:nvPr/>
              </p:nvGrpSpPr>
              <p:grpSpPr>
                <a:xfrm>
                  <a:off x="928440" y="1928880"/>
                  <a:ext cx="2035800" cy="551160"/>
                  <a:chOff x="928440" y="1928880"/>
                  <a:chExt cx="2035800" cy="551160"/>
                </a:xfrm>
              </p:grpSpPr>
              <p:grpSp>
                <p:nvGrpSpPr>
                  <p:cNvPr id="1422" name="그룹 34"/>
                  <p:cNvGrpSpPr/>
                  <p:nvPr/>
                </p:nvGrpSpPr>
                <p:grpSpPr>
                  <a:xfrm>
                    <a:off x="928440" y="2032920"/>
                    <a:ext cx="349200" cy="343800"/>
                    <a:chOff x="928440" y="2032920"/>
                    <a:chExt cx="349200" cy="343800"/>
                  </a:xfrm>
                </p:grpSpPr>
                <p:pic>
                  <p:nvPicPr>
                    <p:cNvPr id="1423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041920"/>
                      <a:ext cx="349200" cy="334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424" name="TextBox 36"/>
                    <p:cNvSpPr/>
                    <p:nvPr/>
                  </p:nvSpPr>
                  <p:spPr>
                    <a:xfrm>
                      <a:off x="957960" y="20329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25" name="직사각형 58"/>
                  <p:cNvSpPr/>
                  <p:nvPr/>
                </p:nvSpPr>
                <p:spPr>
                  <a:xfrm>
                    <a:off x="1585800" y="1928880"/>
                    <a:ext cx="13784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인지에 관한 지식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26" name="직선 연결선 56"/>
                <p:cNvSpPr/>
                <p:nvPr/>
              </p:nvSpPr>
              <p:spPr>
                <a:xfrm flipV="1">
                  <a:off x="5143320" y="2201760"/>
                  <a:ext cx="3359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27" name="타원 46"/>
            <p:cNvGrpSpPr/>
            <p:nvPr/>
          </p:nvGrpSpPr>
          <p:grpSpPr>
            <a:xfrm>
              <a:off x="932760" y="2584800"/>
              <a:ext cx="225360" cy="231480"/>
              <a:chOff x="932760" y="2584800"/>
              <a:chExt cx="225360" cy="231480"/>
            </a:xfrm>
          </p:grpSpPr>
          <p:pic>
            <p:nvPicPr>
              <p:cNvPr id="1428" name="타원 46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2584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29" name=""/>
              <p:cNvSpPr/>
              <p:nvPr/>
            </p:nvSpPr>
            <p:spPr>
              <a:xfrm rot="10800000">
                <a:off x="1014480" y="2643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30" name="타원 52"/>
            <p:cNvGrpSpPr/>
            <p:nvPr/>
          </p:nvGrpSpPr>
          <p:grpSpPr>
            <a:xfrm>
              <a:off x="932760" y="3102840"/>
              <a:ext cx="225360" cy="231480"/>
              <a:chOff x="932760" y="3102840"/>
              <a:chExt cx="225360" cy="231480"/>
            </a:xfrm>
          </p:grpSpPr>
          <p:pic>
            <p:nvPicPr>
              <p:cNvPr id="1431" name="타원 52" descr=""/>
              <p:cNvPicPr/>
              <p:nvPr/>
            </p:nvPicPr>
            <p:blipFill>
              <a:blip r:embed="rId6"/>
              <a:stretch/>
            </p:blipFill>
            <p:spPr>
              <a:xfrm>
                <a:off x="932760" y="3102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32" name=""/>
              <p:cNvSpPr/>
              <p:nvPr/>
            </p:nvSpPr>
            <p:spPr>
              <a:xfrm rot="10800000">
                <a:off x="1014480" y="31575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33" name="그룹 173"/>
          <p:cNvGrpSpPr/>
          <p:nvPr/>
        </p:nvGrpSpPr>
        <p:grpSpPr>
          <a:xfrm>
            <a:off x="285840" y="3929040"/>
            <a:ext cx="8572320" cy="2357640"/>
            <a:chOff x="285840" y="3929040"/>
            <a:chExt cx="8572320" cy="2357640"/>
          </a:xfrm>
        </p:grpSpPr>
        <p:grpSp>
          <p:nvGrpSpPr>
            <p:cNvPr id="1434" name="그룹 63"/>
            <p:cNvGrpSpPr/>
            <p:nvPr/>
          </p:nvGrpSpPr>
          <p:grpSpPr>
            <a:xfrm>
              <a:off x="285840" y="3929040"/>
              <a:ext cx="8572320" cy="2357640"/>
              <a:chOff x="285840" y="3929040"/>
              <a:chExt cx="8572320" cy="2357640"/>
            </a:xfrm>
          </p:grpSpPr>
          <p:grpSp>
            <p:nvGrpSpPr>
              <p:cNvPr id="1435" name="그룹 91"/>
              <p:cNvGrpSpPr/>
              <p:nvPr/>
            </p:nvGrpSpPr>
            <p:grpSpPr>
              <a:xfrm>
                <a:off x="285840" y="4132440"/>
                <a:ext cx="8572320" cy="2154240"/>
                <a:chOff x="285840" y="4132440"/>
                <a:chExt cx="8572320" cy="2154240"/>
              </a:xfrm>
            </p:grpSpPr>
            <p:pic>
              <p:nvPicPr>
                <p:cNvPr id="1436" name="Picture 5" descr="233"/>
                <p:cNvPicPr/>
                <p:nvPr/>
              </p:nvPicPr>
              <p:blipFill>
                <a:blip r:embed="rId7"/>
                <a:srcRect l="0" t="0" r="24313" b="0"/>
                <a:stretch/>
              </p:blipFill>
              <p:spPr>
                <a:xfrm>
                  <a:off x="285840" y="4132440"/>
                  <a:ext cx="8501040" cy="21542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437" name="직사각형 78"/>
                <p:cNvSpPr/>
                <p:nvPr/>
              </p:nvSpPr>
              <p:spPr>
                <a:xfrm>
                  <a:off x="1143000" y="4313160"/>
                  <a:ext cx="7715160" cy="173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계획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목표를 설정하고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계획을 수립하며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전략을 선택하는 과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평가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이해수준을 확인하는 과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점검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이해점검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 도중 이해여부를 확인하는 과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38" name="그룹 44"/>
              <p:cNvGrpSpPr/>
              <p:nvPr/>
            </p:nvGrpSpPr>
            <p:grpSpPr>
              <a:xfrm>
                <a:off x="928440" y="3929040"/>
                <a:ext cx="7574040" cy="551160"/>
                <a:chOff x="928440" y="3929040"/>
                <a:chExt cx="7574040" cy="551160"/>
              </a:xfrm>
            </p:grpSpPr>
            <p:grpSp>
              <p:nvGrpSpPr>
                <p:cNvPr id="1439" name="그룹 91"/>
                <p:cNvGrpSpPr/>
                <p:nvPr/>
              </p:nvGrpSpPr>
              <p:grpSpPr>
                <a:xfrm>
                  <a:off x="928440" y="3929040"/>
                  <a:ext cx="3755520" cy="551160"/>
                  <a:chOff x="928440" y="3929040"/>
                  <a:chExt cx="3755520" cy="551160"/>
                </a:xfrm>
              </p:grpSpPr>
              <p:grpSp>
                <p:nvGrpSpPr>
                  <p:cNvPr id="1440" name="그룹 34"/>
                  <p:cNvGrpSpPr/>
                  <p:nvPr/>
                </p:nvGrpSpPr>
                <p:grpSpPr>
                  <a:xfrm>
                    <a:off x="928440" y="4033080"/>
                    <a:ext cx="349200" cy="343800"/>
                    <a:chOff x="928440" y="4033080"/>
                    <a:chExt cx="349200" cy="343800"/>
                  </a:xfrm>
                </p:grpSpPr>
                <p:pic>
                  <p:nvPicPr>
                    <p:cNvPr id="1441" name="Picture 177" descr="bull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928440" y="4041360"/>
                      <a:ext cx="349200" cy="335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442" name="TextBox 36"/>
                    <p:cNvSpPr/>
                    <p:nvPr/>
                  </p:nvSpPr>
                  <p:spPr>
                    <a:xfrm>
                      <a:off x="957960" y="40330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43" name="직사각형 74"/>
                  <p:cNvSpPr/>
                  <p:nvPr/>
                </p:nvSpPr>
                <p:spPr>
                  <a:xfrm>
                    <a:off x="2020680" y="3929040"/>
                    <a:ext cx="266328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인지과정을 조절하고 통제하는 능력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44" name="직선 연결선 72"/>
                <p:cNvSpPr/>
                <p:nvPr/>
              </p:nvSpPr>
              <p:spPr>
                <a:xfrm flipV="1">
                  <a:off x="5614920" y="4201920"/>
                  <a:ext cx="2887560" cy="468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45" name="타원 67"/>
            <p:cNvGrpSpPr/>
            <p:nvPr/>
          </p:nvGrpSpPr>
          <p:grpSpPr>
            <a:xfrm>
              <a:off x="932760" y="4584240"/>
              <a:ext cx="225360" cy="237600"/>
              <a:chOff x="932760" y="4584240"/>
              <a:chExt cx="225360" cy="237600"/>
            </a:xfrm>
          </p:grpSpPr>
          <p:pic>
            <p:nvPicPr>
              <p:cNvPr id="1446" name="타원 67" descr=""/>
              <p:cNvPicPr/>
              <p:nvPr/>
            </p:nvPicPr>
            <p:blipFill>
              <a:blip r:embed="rId9"/>
              <a:stretch/>
            </p:blipFill>
            <p:spPr>
              <a:xfrm>
                <a:off x="932760" y="458424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47" name=""/>
              <p:cNvSpPr/>
              <p:nvPr/>
            </p:nvSpPr>
            <p:spPr>
              <a:xfrm rot="10800000">
                <a:off x="1014480" y="4644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48" name="타원 68"/>
            <p:cNvGrpSpPr/>
            <p:nvPr/>
          </p:nvGrpSpPr>
          <p:grpSpPr>
            <a:xfrm>
              <a:off x="932760" y="5102280"/>
              <a:ext cx="225360" cy="231480"/>
              <a:chOff x="932760" y="5102280"/>
              <a:chExt cx="225360" cy="231480"/>
            </a:xfrm>
          </p:grpSpPr>
          <p:pic>
            <p:nvPicPr>
              <p:cNvPr id="1449" name="타원 68" descr=""/>
              <p:cNvPicPr/>
              <p:nvPr/>
            </p:nvPicPr>
            <p:blipFill>
              <a:blip r:embed="rId10"/>
              <a:stretch/>
            </p:blipFill>
            <p:spPr>
              <a:xfrm>
                <a:off x="932760" y="51022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50" name=""/>
              <p:cNvSpPr/>
              <p:nvPr/>
            </p:nvSpPr>
            <p:spPr>
              <a:xfrm rot="10800000">
                <a:off x="1014480" y="5157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51" name="타원 80"/>
            <p:cNvGrpSpPr/>
            <p:nvPr/>
          </p:nvGrpSpPr>
          <p:grpSpPr>
            <a:xfrm>
              <a:off x="932760" y="5675760"/>
              <a:ext cx="225360" cy="231480"/>
              <a:chOff x="932760" y="5675760"/>
              <a:chExt cx="225360" cy="231480"/>
            </a:xfrm>
          </p:grpSpPr>
          <p:pic>
            <p:nvPicPr>
              <p:cNvPr id="1452" name="타원 80" descr=""/>
              <p:cNvPicPr/>
              <p:nvPr/>
            </p:nvPicPr>
            <p:blipFill>
              <a:blip r:embed="rId11"/>
              <a:stretch/>
            </p:blipFill>
            <p:spPr>
              <a:xfrm>
                <a:off x="932760" y="56757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53" name=""/>
              <p:cNvSpPr/>
              <p:nvPr/>
            </p:nvSpPr>
            <p:spPr>
              <a:xfrm rot="10800000">
                <a:off x="1014480" y="5729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1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4" name="TextBox 12" descr=""/>
          <p:cNvPicPr/>
          <p:nvPr/>
        </p:nvPicPr>
        <p:blipFill>
          <a:blip r:embed="rId1"/>
          <a:stretch/>
        </p:blipFill>
        <p:spPr>
          <a:xfrm>
            <a:off x="7607160" y="506520"/>
            <a:ext cx="15973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455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45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457" name="직사각형 13"/>
              <p:cNvSpPr/>
              <p:nvPr/>
            </p:nvSpPr>
            <p:spPr>
              <a:xfrm>
                <a:off x="1422000" y="1385640"/>
                <a:ext cx="3126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소멸이론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decay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or fading theor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8" name="직선 연결선 2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5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46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6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46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6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64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5" name="그룹 173"/>
          <p:cNvGrpSpPr/>
          <p:nvPr/>
        </p:nvGrpSpPr>
        <p:grpSpPr>
          <a:xfrm>
            <a:off x="285840" y="2000160"/>
            <a:ext cx="8643960" cy="1500120"/>
            <a:chOff x="285840" y="2000160"/>
            <a:chExt cx="8643960" cy="1500120"/>
          </a:xfrm>
        </p:grpSpPr>
        <p:grpSp>
          <p:nvGrpSpPr>
            <p:cNvPr id="1466" name="그룹 91"/>
            <p:cNvGrpSpPr/>
            <p:nvPr/>
          </p:nvGrpSpPr>
          <p:grpSpPr>
            <a:xfrm>
              <a:off x="285840" y="2000160"/>
              <a:ext cx="8643960" cy="1500120"/>
              <a:chOff x="285840" y="2000160"/>
              <a:chExt cx="8643960" cy="1500120"/>
            </a:xfrm>
          </p:grpSpPr>
          <p:pic>
            <p:nvPicPr>
              <p:cNvPr id="1467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000160"/>
                <a:ext cx="8643960" cy="15001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468" name="직사각형 52"/>
              <p:cNvSpPr/>
              <p:nvPr/>
            </p:nvSpPr>
            <p:spPr>
              <a:xfrm>
                <a:off x="1143000" y="2071440"/>
                <a:ext cx="771552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억흔적이 시간경과에 따라 사라지기 때문에 망각이 일어난다고 보는 관점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사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을 방지하려면 학습내용에 대한 충분한 반복연습이 필요하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69" name="타원 41"/>
            <p:cNvGrpSpPr/>
            <p:nvPr/>
          </p:nvGrpSpPr>
          <p:grpSpPr>
            <a:xfrm>
              <a:off x="932760" y="2359080"/>
              <a:ext cx="225360" cy="231480"/>
              <a:chOff x="932760" y="2359080"/>
              <a:chExt cx="225360" cy="231480"/>
            </a:xfrm>
          </p:grpSpPr>
          <p:pic>
            <p:nvPicPr>
              <p:cNvPr id="1470" name="타원 41" descr=""/>
              <p:cNvPicPr/>
              <p:nvPr/>
            </p:nvPicPr>
            <p:blipFill>
              <a:blip r:embed="rId4"/>
              <a:stretch/>
            </p:blipFill>
            <p:spPr>
              <a:xfrm>
                <a:off x="932760" y="23590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71" name=""/>
              <p:cNvSpPr/>
              <p:nvPr/>
            </p:nvSpPr>
            <p:spPr>
              <a:xfrm rot="10800000">
                <a:off x="1014480" y="24163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2" name="타원 42"/>
            <p:cNvGrpSpPr/>
            <p:nvPr/>
          </p:nvGrpSpPr>
          <p:grpSpPr>
            <a:xfrm>
              <a:off x="932760" y="2883240"/>
              <a:ext cx="225360" cy="237600"/>
              <a:chOff x="932760" y="2883240"/>
              <a:chExt cx="225360" cy="237600"/>
            </a:xfrm>
          </p:grpSpPr>
          <p:pic>
            <p:nvPicPr>
              <p:cNvPr id="1473" name="타원 42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288324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74" name=""/>
              <p:cNvSpPr/>
              <p:nvPr/>
            </p:nvSpPr>
            <p:spPr>
              <a:xfrm rot="10800000">
                <a:off x="1014480" y="2943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75" name="그룹 35"/>
          <p:cNvGrpSpPr/>
          <p:nvPr/>
        </p:nvGrpSpPr>
        <p:grpSpPr>
          <a:xfrm>
            <a:off x="642960" y="4071960"/>
            <a:ext cx="8429760" cy="468360"/>
            <a:chOff x="642960" y="4071960"/>
            <a:chExt cx="8429760" cy="468360"/>
          </a:xfrm>
        </p:grpSpPr>
        <p:grpSp>
          <p:nvGrpSpPr>
            <p:cNvPr id="1476" name="그룹 48"/>
            <p:cNvGrpSpPr/>
            <p:nvPr/>
          </p:nvGrpSpPr>
          <p:grpSpPr>
            <a:xfrm>
              <a:off x="642960" y="4138560"/>
              <a:ext cx="8429760" cy="401760"/>
              <a:chOff x="642960" y="4138560"/>
              <a:chExt cx="8429760" cy="401760"/>
            </a:xfrm>
          </p:grpSpPr>
          <p:sp>
            <p:nvSpPr>
              <p:cNvPr id="1477" name="직사각형 13"/>
              <p:cNvSpPr/>
              <p:nvPr/>
            </p:nvSpPr>
            <p:spPr>
              <a:xfrm>
                <a:off x="1349640" y="4138560"/>
                <a:ext cx="3205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소멸포섭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obliterate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subsumption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8" name="직선 연결선 60"/>
              <p:cNvSpPr/>
              <p:nvPr/>
            </p:nvSpPr>
            <p:spPr>
              <a:xfrm>
                <a:off x="642960" y="453888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9" name="그룹 49"/>
            <p:cNvGrpSpPr/>
            <p:nvPr/>
          </p:nvGrpSpPr>
          <p:grpSpPr>
            <a:xfrm>
              <a:off x="671400" y="4147920"/>
              <a:ext cx="328320" cy="319320"/>
              <a:chOff x="671400" y="4147920"/>
              <a:chExt cx="328320" cy="319320"/>
            </a:xfrm>
          </p:grpSpPr>
          <p:sp>
            <p:nvSpPr>
              <p:cNvPr id="1480" name="AutoShape 4"/>
              <p:cNvSpPr/>
              <p:nvPr/>
            </p:nvSpPr>
            <p:spPr>
              <a:xfrm>
                <a:off x="671400" y="414792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81" name="Freeform 5"/>
              <p:cNvGrpSpPr/>
              <p:nvPr/>
            </p:nvGrpSpPr>
            <p:grpSpPr>
              <a:xfrm>
                <a:off x="688680" y="4163040"/>
                <a:ext cx="170640" cy="171000"/>
                <a:chOff x="688680" y="4163040"/>
                <a:chExt cx="170640" cy="171000"/>
              </a:xfrm>
            </p:grpSpPr>
            <p:pic>
              <p:nvPicPr>
                <p:cNvPr id="1482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416304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83" name=""/>
                <p:cNvSpPr/>
                <p:nvPr/>
              </p:nvSpPr>
              <p:spPr>
                <a:xfrm>
                  <a:off x="691920" y="416808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84" name="TextBox 88"/>
            <p:cNvSpPr/>
            <p:nvPr/>
          </p:nvSpPr>
          <p:spPr>
            <a:xfrm>
              <a:off x="678600" y="40719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5" name="그룹 173"/>
          <p:cNvGrpSpPr/>
          <p:nvPr/>
        </p:nvGrpSpPr>
        <p:grpSpPr>
          <a:xfrm>
            <a:off x="285840" y="4753080"/>
            <a:ext cx="8715240" cy="1500120"/>
            <a:chOff x="285840" y="4753080"/>
            <a:chExt cx="8715240" cy="1500120"/>
          </a:xfrm>
        </p:grpSpPr>
        <p:grpSp>
          <p:nvGrpSpPr>
            <p:cNvPr id="1486" name="그룹 91"/>
            <p:cNvGrpSpPr/>
            <p:nvPr/>
          </p:nvGrpSpPr>
          <p:grpSpPr>
            <a:xfrm>
              <a:off x="285840" y="4753080"/>
              <a:ext cx="8715240" cy="1500120"/>
              <a:chOff x="285840" y="4753080"/>
              <a:chExt cx="8715240" cy="1500120"/>
            </a:xfrm>
          </p:grpSpPr>
          <p:pic>
            <p:nvPicPr>
              <p:cNvPr id="1487" name="Picture 5" descr="233"/>
              <p:cNvPicPr/>
              <p:nvPr/>
            </p:nvPicPr>
            <p:blipFill>
              <a:blip r:embed="rId7"/>
              <a:srcRect l="0" t="0" r="24313" b="0"/>
              <a:stretch/>
            </p:blipFill>
            <p:spPr>
              <a:xfrm>
                <a:off x="285840" y="4753080"/>
                <a:ext cx="8643960" cy="15001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488" name="직사각형 66"/>
              <p:cNvSpPr/>
              <p:nvPr/>
            </p:nvSpPr>
            <p:spPr>
              <a:xfrm>
                <a:off x="1143000" y="4824360"/>
                <a:ext cx="785808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새로운 정보는 기존의 인지구조에 통합되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즉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변별력을 상실하여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이 일어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사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을 방지하려면 학습자료의 특이성을 높여 차별화해야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89" name="타원 63"/>
            <p:cNvGrpSpPr/>
            <p:nvPr/>
          </p:nvGrpSpPr>
          <p:grpSpPr>
            <a:xfrm>
              <a:off x="932760" y="5114520"/>
              <a:ext cx="225360" cy="231480"/>
              <a:chOff x="932760" y="5114520"/>
              <a:chExt cx="225360" cy="231480"/>
            </a:xfrm>
          </p:grpSpPr>
          <p:pic>
            <p:nvPicPr>
              <p:cNvPr id="1490" name="타원 63" descr=""/>
              <p:cNvPicPr/>
              <p:nvPr/>
            </p:nvPicPr>
            <p:blipFill>
              <a:blip r:embed="rId8"/>
              <a:stretch/>
            </p:blipFill>
            <p:spPr>
              <a:xfrm>
                <a:off x="932760" y="51145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91" name=""/>
              <p:cNvSpPr/>
              <p:nvPr/>
            </p:nvSpPr>
            <p:spPr>
              <a:xfrm rot="10800000">
                <a:off x="1014480" y="51692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92" name="타원 64"/>
            <p:cNvGrpSpPr/>
            <p:nvPr/>
          </p:nvGrpSpPr>
          <p:grpSpPr>
            <a:xfrm>
              <a:off x="932760" y="5639040"/>
              <a:ext cx="225360" cy="231480"/>
              <a:chOff x="932760" y="5639040"/>
              <a:chExt cx="225360" cy="231480"/>
            </a:xfrm>
          </p:grpSpPr>
          <p:pic>
            <p:nvPicPr>
              <p:cNvPr id="1493" name="타원 64" descr=""/>
              <p:cNvPicPr/>
              <p:nvPr/>
            </p:nvPicPr>
            <p:blipFill>
              <a:blip r:embed="rId9"/>
              <a:stretch/>
            </p:blipFill>
            <p:spPr>
              <a:xfrm>
                <a:off x="932760" y="56390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94" name=""/>
              <p:cNvSpPr/>
              <p:nvPr/>
            </p:nvSpPr>
            <p:spPr>
              <a:xfrm rot="10800000">
                <a:off x="1014480" y="56962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1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5" name="TextBox 12" descr=""/>
          <p:cNvPicPr/>
          <p:nvPr/>
        </p:nvPicPr>
        <p:blipFill>
          <a:blip r:embed="rId1"/>
          <a:stretch/>
        </p:blipFill>
        <p:spPr>
          <a:xfrm>
            <a:off x="7607160" y="506520"/>
            <a:ext cx="15973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496" name="그룹 35"/>
          <p:cNvGrpSpPr/>
          <p:nvPr/>
        </p:nvGrpSpPr>
        <p:grpSpPr>
          <a:xfrm>
            <a:off x="642960" y="1214280"/>
            <a:ext cx="8429760" cy="468360"/>
            <a:chOff x="642960" y="1214280"/>
            <a:chExt cx="8429760" cy="468360"/>
          </a:xfrm>
        </p:grpSpPr>
        <p:grpSp>
          <p:nvGrpSpPr>
            <p:cNvPr id="1497" name="그룹 48"/>
            <p:cNvGrpSpPr/>
            <p:nvPr/>
          </p:nvGrpSpPr>
          <p:grpSpPr>
            <a:xfrm>
              <a:off x="642960" y="1280880"/>
              <a:ext cx="8429760" cy="401760"/>
              <a:chOff x="642960" y="1280880"/>
              <a:chExt cx="8429760" cy="401760"/>
            </a:xfrm>
          </p:grpSpPr>
          <p:sp>
            <p:nvSpPr>
              <p:cNvPr id="1498" name="직사각형 13"/>
              <p:cNvSpPr/>
              <p:nvPr/>
            </p:nvSpPr>
            <p:spPr>
              <a:xfrm>
                <a:off x="1161720" y="1280880"/>
                <a:ext cx="1683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억압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repression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9" name="직선 연결선 35"/>
              <p:cNvSpPr/>
              <p:nvPr/>
            </p:nvSpPr>
            <p:spPr>
              <a:xfrm>
                <a:off x="642960" y="168120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00" name="그룹 49"/>
            <p:cNvGrpSpPr/>
            <p:nvPr/>
          </p:nvGrpSpPr>
          <p:grpSpPr>
            <a:xfrm>
              <a:off x="671400" y="1290240"/>
              <a:ext cx="328320" cy="319320"/>
              <a:chOff x="671400" y="1290240"/>
              <a:chExt cx="328320" cy="319320"/>
            </a:xfrm>
          </p:grpSpPr>
          <p:sp>
            <p:nvSpPr>
              <p:cNvPr id="1501" name="AutoShape 4"/>
              <p:cNvSpPr/>
              <p:nvPr/>
            </p:nvSpPr>
            <p:spPr>
              <a:xfrm>
                <a:off x="671400" y="129024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02" name="Freeform 5"/>
              <p:cNvGrpSpPr/>
              <p:nvPr/>
            </p:nvGrpSpPr>
            <p:grpSpPr>
              <a:xfrm>
                <a:off x="688680" y="1303920"/>
                <a:ext cx="170640" cy="171000"/>
                <a:chOff x="688680" y="1303920"/>
                <a:chExt cx="170640" cy="171000"/>
              </a:xfrm>
            </p:grpSpPr>
            <p:pic>
              <p:nvPicPr>
                <p:cNvPr id="150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30392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04" name=""/>
                <p:cNvSpPr/>
                <p:nvPr/>
              </p:nvSpPr>
              <p:spPr>
                <a:xfrm>
                  <a:off x="691920" y="131040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05" name="TextBox 88"/>
            <p:cNvSpPr/>
            <p:nvPr/>
          </p:nvSpPr>
          <p:spPr>
            <a:xfrm>
              <a:off x="678600" y="12142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6" name="그룹 173"/>
          <p:cNvGrpSpPr/>
          <p:nvPr/>
        </p:nvGrpSpPr>
        <p:grpSpPr>
          <a:xfrm>
            <a:off x="285840" y="1714680"/>
            <a:ext cx="8572320" cy="1643040"/>
            <a:chOff x="285840" y="1714680"/>
            <a:chExt cx="8572320" cy="1643040"/>
          </a:xfrm>
        </p:grpSpPr>
        <p:grpSp>
          <p:nvGrpSpPr>
            <p:cNvPr id="1507" name="그룹 91"/>
            <p:cNvGrpSpPr/>
            <p:nvPr/>
          </p:nvGrpSpPr>
          <p:grpSpPr>
            <a:xfrm>
              <a:off x="285840" y="1714680"/>
              <a:ext cx="8572320" cy="1643040"/>
              <a:chOff x="285840" y="1714680"/>
              <a:chExt cx="8572320" cy="1643040"/>
            </a:xfrm>
          </p:grpSpPr>
          <p:pic>
            <p:nvPicPr>
              <p:cNvPr id="1508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1857240"/>
                <a:ext cx="8501040" cy="15004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509" name="직사각형 41"/>
              <p:cNvSpPr/>
              <p:nvPr/>
            </p:nvSpPr>
            <p:spPr>
              <a:xfrm>
                <a:off x="1143000" y="1714680"/>
                <a:ext cx="7715160" cy="146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고통스러운 경험이나 불쾌한 경험이 무의식 속으로 억압되어 망각이 일어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동기화된 망각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사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생들에게 외상적인 경험이나 불쾌한 경험을 제공하지 않아야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0" name="타원 38"/>
            <p:cNvGrpSpPr/>
            <p:nvPr/>
          </p:nvGrpSpPr>
          <p:grpSpPr>
            <a:xfrm>
              <a:off x="932760" y="1999440"/>
              <a:ext cx="225360" cy="237600"/>
              <a:chOff x="932760" y="1999440"/>
              <a:chExt cx="225360" cy="237600"/>
            </a:xfrm>
          </p:grpSpPr>
          <p:pic>
            <p:nvPicPr>
              <p:cNvPr id="1511" name="타원 38" descr=""/>
              <p:cNvPicPr/>
              <p:nvPr/>
            </p:nvPicPr>
            <p:blipFill>
              <a:blip r:embed="rId4"/>
              <a:stretch/>
            </p:blipFill>
            <p:spPr>
              <a:xfrm>
                <a:off x="932760" y="199944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12" name=""/>
              <p:cNvSpPr/>
              <p:nvPr/>
            </p:nvSpPr>
            <p:spPr>
              <a:xfrm rot="10800000">
                <a:off x="1014480" y="20592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3" name="타원 39"/>
            <p:cNvGrpSpPr/>
            <p:nvPr/>
          </p:nvGrpSpPr>
          <p:grpSpPr>
            <a:xfrm>
              <a:off x="932760" y="2816640"/>
              <a:ext cx="225360" cy="231480"/>
              <a:chOff x="932760" y="2816640"/>
              <a:chExt cx="225360" cy="231480"/>
            </a:xfrm>
          </p:grpSpPr>
          <p:pic>
            <p:nvPicPr>
              <p:cNvPr id="1514" name="타원 39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2816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15" name=""/>
              <p:cNvSpPr/>
              <p:nvPr/>
            </p:nvSpPr>
            <p:spPr>
              <a:xfrm rot="10800000">
                <a:off x="1014480" y="28720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16" name="그룹 35"/>
          <p:cNvGrpSpPr/>
          <p:nvPr/>
        </p:nvGrpSpPr>
        <p:grpSpPr>
          <a:xfrm>
            <a:off x="642960" y="3675240"/>
            <a:ext cx="8429760" cy="468000"/>
            <a:chOff x="642960" y="3675240"/>
            <a:chExt cx="8429760" cy="468000"/>
          </a:xfrm>
        </p:grpSpPr>
        <p:grpSp>
          <p:nvGrpSpPr>
            <p:cNvPr id="1517" name="그룹 48"/>
            <p:cNvGrpSpPr/>
            <p:nvPr/>
          </p:nvGrpSpPr>
          <p:grpSpPr>
            <a:xfrm>
              <a:off x="642960" y="3741840"/>
              <a:ext cx="8429760" cy="401400"/>
              <a:chOff x="642960" y="3741840"/>
              <a:chExt cx="8429760" cy="401400"/>
            </a:xfrm>
          </p:grpSpPr>
          <p:sp>
            <p:nvSpPr>
              <p:cNvPr id="1518" name="직사각형 13"/>
              <p:cNvSpPr/>
              <p:nvPr/>
            </p:nvSpPr>
            <p:spPr>
              <a:xfrm>
                <a:off x="1352160" y="3741840"/>
                <a:ext cx="2815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간섭이론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interference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theor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9" name="직선 연결선 49"/>
              <p:cNvSpPr/>
              <p:nvPr/>
            </p:nvSpPr>
            <p:spPr>
              <a:xfrm>
                <a:off x="642960" y="414180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0" name="그룹 49"/>
            <p:cNvGrpSpPr/>
            <p:nvPr/>
          </p:nvGrpSpPr>
          <p:grpSpPr>
            <a:xfrm>
              <a:off x="671400" y="3751200"/>
              <a:ext cx="328320" cy="318960"/>
              <a:chOff x="671400" y="3751200"/>
              <a:chExt cx="328320" cy="318960"/>
            </a:xfrm>
          </p:grpSpPr>
          <p:sp>
            <p:nvSpPr>
              <p:cNvPr id="1521" name="AutoShape 4"/>
              <p:cNvSpPr/>
              <p:nvPr/>
            </p:nvSpPr>
            <p:spPr>
              <a:xfrm>
                <a:off x="671400" y="375120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22" name="Freeform 5"/>
              <p:cNvGrpSpPr/>
              <p:nvPr/>
            </p:nvGrpSpPr>
            <p:grpSpPr>
              <a:xfrm>
                <a:off x="688680" y="3767040"/>
                <a:ext cx="170640" cy="170640"/>
                <a:chOff x="688680" y="3767040"/>
                <a:chExt cx="170640" cy="170640"/>
              </a:xfrm>
            </p:grpSpPr>
            <p:pic>
              <p:nvPicPr>
                <p:cNvPr id="1523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376704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24" name=""/>
                <p:cNvSpPr/>
                <p:nvPr/>
              </p:nvSpPr>
              <p:spPr>
                <a:xfrm>
                  <a:off x="691920" y="377136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25" name="TextBox 88"/>
            <p:cNvSpPr/>
            <p:nvPr/>
          </p:nvSpPr>
          <p:spPr>
            <a:xfrm>
              <a:off x="678600" y="36752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6" name="그룹 173"/>
          <p:cNvGrpSpPr/>
          <p:nvPr/>
        </p:nvGrpSpPr>
        <p:grpSpPr>
          <a:xfrm>
            <a:off x="285840" y="4138560"/>
            <a:ext cx="8858160" cy="2505240"/>
            <a:chOff x="285840" y="4138560"/>
            <a:chExt cx="8858160" cy="2505240"/>
          </a:xfrm>
        </p:grpSpPr>
        <p:grpSp>
          <p:nvGrpSpPr>
            <p:cNvPr id="1527" name="그룹 91"/>
            <p:cNvGrpSpPr/>
            <p:nvPr/>
          </p:nvGrpSpPr>
          <p:grpSpPr>
            <a:xfrm>
              <a:off x="285840" y="4138560"/>
              <a:ext cx="8858160" cy="2505240"/>
              <a:chOff x="285840" y="4138560"/>
              <a:chExt cx="8858160" cy="2505240"/>
            </a:xfrm>
          </p:grpSpPr>
          <p:pic>
            <p:nvPicPr>
              <p:cNvPr id="1528" name="Picture 5" descr="233"/>
              <p:cNvPicPr/>
              <p:nvPr/>
            </p:nvPicPr>
            <p:blipFill>
              <a:blip r:embed="rId7"/>
              <a:srcRect l="0" t="0" r="24313" b="0"/>
              <a:stretch/>
            </p:blipFill>
            <p:spPr>
              <a:xfrm>
                <a:off x="285840" y="4429080"/>
                <a:ext cx="8501040" cy="22147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529" name="직사각형 55"/>
              <p:cNvSpPr/>
              <p:nvPr/>
            </p:nvSpPr>
            <p:spPr>
              <a:xfrm>
                <a:off x="1143000" y="4138560"/>
                <a:ext cx="8001000" cy="242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억 속에 저장된 항목들 사이의 혼동으로 인해 망각이 일어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금지이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/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제지이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사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새로운 과제를 기존과제와 차별화해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30" name="타원 52"/>
            <p:cNvGrpSpPr/>
            <p:nvPr/>
          </p:nvGrpSpPr>
          <p:grpSpPr>
            <a:xfrm>
              <a:off x="932760" y="4456080"/>
              <a:ext cx="225360" cy="231480"/>
              <a:chOff x="932760" y="4456080"/>
              <a:chExt cx="225360" cy="231480"/>
            </a:xfrm>
          </p:grpSpPr>
          <p:pic>
            <p:nvPicPr>
              <p:cNvPr id="1531" name="타원 52" descr=""/>
              <p:cNvPicPr/>
              <p:nvPr/>
            </p:nvPicPr>
            <p:blipFill>
              <a:blip r:embed="rId8"/>
              <a:stretch/>
            </p:blipFill>
            <p:spPr>
              <a:xfrm>
                <a:off x="932760" y="44560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32" name=""/>
              <p:cNvSpPr/>
              <p:nvPr/>
            </p:nvSpPr>
            <p:spPr>
              <a:xfrm rot="10800000">
                <a:off x="1014480" y="4514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33" name="타원 53"/>
            <p:cNvGrpSpPr/>
            <p:nvPr/>
          </p:nvGrpSpPr>
          <p:grpSpPr>
            <a:xfrm>
              <a:off x="932760" y="6242400"/>
              <a:ext cx="225360" cy="231480"/>
              <a:chOff x="932760" y="6242400"/>
              <a:chExt cx="225360" cy="231480"/>
            </a:xfrm>
          </p:grpSpPr>
          <p:pic>
            <p:nvPicPr>
              <p:cNvPr id="1534" name="타원 53" descr=""/>
              <p:cNvPicPr/>
              <p:nvPr/>
            </p:nvPicPr>
            <p:blipFill>
              <a:blip r:embed="rId9"/>
              <a:stretch/>
            </p:blipFill>
            <p:spPr>
              <a:xfrm>
                <a:off x="932760" y="62424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35" name=""/>
              <p:cNvSpPr/>
              <p:nvPr/>
            </p:nvSpPr>
            <p:spPr>
              <a:xfrm rot="10800000">
                <a:off x="1014480" y="6300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36" name="그룹 29"/>
          <p:cNvGrpSpPr/>
          <p:nvPr/>
        </p:nvGrpSpPr>
        <p:grpSpPr>
          <a:xfrm>
            <a:off x="1500120" y="4916520"/>
            <a:ext cx="5929560" cy="1001160"/>
            <a:chOff x="1500120" y="4916520"/>
            <a:chExt cx="5929560" cy="1001160"/>
          </a:xfrm>
        </p:grpSpPr>
        <p:grpSp>
          <p:nvGrpSpPr>
            <p:cNvPr id="1537" name="모서리가 둥근 직사각형 18"/>
            <p:cNvGrpSpPr/>
            <p:nvPr/>
          </p:nvGrpSpPr>
          <p:grpSpPr>
            <a:xfrm>
              <a:off x="1500120" y="4916520"/>
              <a:ext cx="2023200" cy="857520"/>
              <a:chOff x="1500120" y="4916520"/>
              <a:chExt cx="2023200" cy="857520"/>
            </a:xfrm>
          </p:grpSpPr>
          <p:pic>
            <p:nvPicPr>
              <p:cNvPr id="1538" name="모서리가 둥근 직사각형 18" descr=""/>
              <p:cNvPicPr/>
              <p:nvPr/>
            </p:nvPicPr>
            <p:blipFill>
              <a:blip r:embed="rId10"/>
              <a:stretch/>
            </p:blipFill>
            <p:spPr>
              <a:xfrm>
                <a:off x="1500120" y="4916520"/>
                <a:ext cx="2023200" cy="857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39" name=""/>
              <p:cNvSpPr/>
              <p:nvPr/>
            </p:nvSpPr>
            <p:spPr>
              <a:xfrm>
                <a:off x="1659960" y="5043240"/>
                <a:ext cx="1708920" cy="58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선행학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0" name="모서리가 둥근 직사각형 19"/>
            <p:cNvGrpSpPr/>
            <p:nvPr/>
          </p:nvGrpSpPr>
          <p:grpSpPr>
            <a:xfrm>
              <a:off x="5546880" y="4916520"/>
              <a:ext cx="1882800" cy="923760"/>
              <a:chOff x="5546880" y="4916520"/>
              <a:chExt cx="1882800" cy="923760"/>
            </a:xfrm>
          </p:grpSpPr>
          <p:pic>
            <p:nvPicPr>
              <p:cNvPr id="1541" name="모서리가 둥근 직사각형 19" descr=""/>
              <p:cNvPicPr/>
              <p:nvPr/>
            </p:nvPicPr>
            <p:blipFill>
              <a:blip r:embed="rId11"/>
              <a:stretch/>
            </p:blipFill>
            <p:spPr>
              <a:xfrm>
                <a:off x="5546880" y="4916520"/>
                <a:ext cx="1882800" cy="923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42" name=""/>
              <p:cNvSpPr/>
              <p:nvPr/>
            </p:nvSpPr>
            <p:spPr>
              <a:xfrm>
                <a:off x="5706720" y="5046480"/>
                <a:ext cx="1564200" cy="64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후속학습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1543" name="직선 화살표 연결선 22"/>
            <p:cNvCxnSpPr/>
            <p:nvPr/>
          </p:nvCxnSpPr>
          <p:spPr>
            <a:xfrm>
              <a:off x="3678840" y="5189040"/>
              <a:ext cx="1782360" cy="1800"/>
            </a:xfrm>
            <a:prstGeom prst="straightConnector1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44" name="직선 화살표 연결선 28"/>
            <p:cNvCxnSpPr/>
            <p:nvPr/>
          </p:nvCxnSpPr>
          <p:spPr>
            <a:xfrm flipH="1">
              <a:off x="3678480" y="5549400"/>
              <a:ext cx="1782360" cy="1800"/>
            </a:xfrm>
            <a:prstGeom prst="straightConnector1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545" name="TextBox 26"/>
            <p:cNvSpPr/>
            <p:nvPr/>
          </p:nvSpPr>
          <p:spPr>
            <a:xfrm>
              <a:off x="4188600" y="5000760"/>
              <a:ext cx="729360" cy="916920"/>
            </a:xfrm>
            <a:prstGeom prst="rect">
              <a:avLst/>
            </a:prstGeom>
            <a:solidFill>
              <a:srgbClr val="f3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c00000"/>
                  </a:solidFill>
                  <a:latin typeface="휴먼엑스포"/>
                  <a:ea typeface="휴먼엑스포"/>
                </a:rPr>
                <a:t>순행간섭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c00000"/>
                  </a:solidFill>
                  <a:latin typeface="휴먼엑스포"/>
                  <a:ea typeface="휴먼엑스포"/>
                </a:rPr>
                <a:t>역행간섭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1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6" name="TextBox 12" descr=""/>
          <p:cNvPicPr/>
          <p:nvPr/>
        </p:nvPicPr>
        <p:blipFill>
          <a:blip r:embed="rId1"/>
          <a:stretch/>
        </p:blipFill>
        <p:spPr>
          <a:xfrm>
            <a:off x="7607160" y="506520"/>
            <a:ext cx="15973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547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548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549" name="직사각형 13"/>
              <p:cNvSpPr/>
              <p:nvPr/>
            </p:nvSpPr>
            <p:spPr>
              <a:xfrm>
                <a:off x="1474200" y="1385640"/>
                <a:ext cx="3408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출실패이론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retrieval failure theor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0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51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552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53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55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55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56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7" name="그룹 173"/>
          <p:cNvGrpSpPr/>
          <p:nvPr/>
        </p:nvGrpSpPr>
        <p:grpSpPr>
          <a:xfrm>
            <a:off x="285840" y="1857240"/>
            <a:ext cx="8572320" cy="4357800"/>
            <a:chOff x="285840" y="1857240"/>
            <a:chExt cx="8572320" cy="4357800"/>
          </a:xfrm>
        </p:grpSpPr>
        <p:grpSp>
          <p:nvGrpSpPr>
            <p:cNvPr id="1558" name="그룹 91"/>
            <p:cNvGrpSpPr/>
            <p:nvPr/>
          </p:nvGrpSpPr>
          <p:grpSpPr>
            <a:xfrm>
              <a:off x="285840" y="1857240"/>
              <a:ext cx="8572320" cy="4357800"/>
              <a:chOff x="285840" y="1857240"/>
              <a:chExt cx="8572320" cy="4357800"/>
            </a:xfrm>
          </p:grpSpPr>
          <p:pic>
            <p:nvPicPr>
              <p:cNvPr id="1559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1999800"/>
                <a:ext cx="8501040" cy="42152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560" name="직사각형 24"/>
              <p:cNvSpPr/>
              <p:nvPr/>
            </p:nvSpPr>
            <p:spPr>
              <a:xfrm>
                <a:off x="1143000" y="1857240"/>
                <a:ext cx="7715160" cy="366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장기기억에 저장되어 있는 내용을 인출할 수 없어서 망각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일어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즉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은 인출단서의 상실에서 비롯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단서의존적 망각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 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예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설단현상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사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를 유의미하게 부호화해야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그렇게 하면 인출단서가 풍부해지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    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출확률이 높아진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1" name="타원 21"/>
            <p:cNvGrpSpPr/>
            <p:nvPr/>
          </p:nvGrpSpPr>
          <p:grpSpPr>
            <a:xfrm>
              <a:off x="932760" y="2145600"/>
              <a:ext cx="225360" cy="231480"/>
              <a:chOff x="932760" y="2145600"/>
              <a:chExt cx="225360" cy="231480"/>
            </a:xfrm>
          </p:grpSpPr>
          <p:pic>
            <p:nvPicPr>
              <p:cNvPr id="1562" name="타원 21" descr=""/>
              <p:cNvPicPr/>
              <p:nvPr/>
            </p:nvPicPr>
            <p:blipFill>
              <a:blip r:embed="rId4"/>
              <a:stretch/>
            </p:blipFill>
            <p:spPr>
              <a:xfrm>
                <a:off x="932760" y="21456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63" name=""/>
              <p:cNvSpPr/>
              <p:nvPr/>
            </p:nvSpPr>
            <p:spPr>
              <a:xfrm rot="10800000">
                <a:off x="1014480" y="22021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4" name="타원 22"/>
            <p:cNvGrpSpPr/>
            <p:nvPr/>
          </p:nvGrpSpPr>
          <p:grpSpPr>
            <a:xfrm>
              <a:off x="932760" y="4742640"/>
              <a:ext cx="225360" cy="231480"/>
              <a:chOff x="932760" y="4742640"/>
              <a:chExt cx="225360" cy="231480"/>
            </a:xfrm>
          </p:grpSpPr>
          <p:pic>
            <p:nvPicPr>
              <p:cNvPr id="1565" name="타원 22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4742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66" name=""/>
              <p:cNvSpPr/>
              <p:nvPr/>
            </p:nvSpPr>
            <p:spPr>
              <a:xfrm rot="10800000">
                <a:off x="1014480" y="48006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67" name="그룹 30"/>
          <p:cNvGrpSpPr/>
          <p:nvPr/>
        </p:nvGrpSpPr>
        <p:grpSpPr>
          <a:xfrm>
            <a:off x="978480" y="3071880"/>
            <a:ext cx="7792560" cy="1188720"/>
            <a:chOff x="978480" y="3071880"/>
            <a:chExt cx="7792560" cy="1188720"/>
          </a:xfrm>
        </p:grpSpPr>
        <p:grpSp>
          <p:nvGrpSpPr>
            <p:cNvPr id="1568" name="그룹 142"/>
            <p:cNvGrpSpPr/>
            <p:nvPr/>
          </p:nvGrpSpPr>
          <p:grpSpPr>
            <a:xfrm>
              <a:off x="978480" y="3071880"/>
              <a:ext cx="1276920" cy="505440"/>
              <a:chOff x="978480" y="3071880"/>
              <a:chExt cx="1276920" cy="505440"/>
            </a:xfrm>
          </p:grpSpPr>
          <p:grpSp>
            <p:nvGrpSpPr>
              <p:cNvPr id="1569" name="그룹 97"/>
              <p:cNvGrpSpPr/>
              <p:nvPr/>
            </p:nvGrpSpPr>
            <p:grpSpPr>
              <a:xfrm>
                <a:off x="978480" y="3168000"/>
                <a:ext cx="340920" cy="307080"/>
                <a:chOff x="978480" y="3168000"/>
                <a:chExt cx="340920" cy="307080"/>
              </a:xfrm>
            </p:grpSpPr>
            <p:pic>
              <p:nvPicPr>
                <p:cNvPr id="1570" name="Picture 177" descr="bull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999720" y="3187800"/>
                  <a:ext cx="286560" cy="286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71" name="TextBox 146"/>
                <p:cNvSpPr/>
                <p:nvPr/>
              </p:nvSpPr>
              <p:spPr>
                <a:xfrm>
                  <a:off x="978480" y="3168000"/>
                  <a:ext cx="3409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4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★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72" name="직사각형 35"/>
              <p:cNvSpPr/>
              <p:nvPr/>
            </p:nvSpPr>
            <p:spPr>
              <a:xfrm>
                <a:off x="1329480" y="3071880"/>
                <a:ext cx="9259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회상과 재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73" name="직선 연결선 28"/>
            <p:cNvSpPr/>
            <p:nvPr/>
          </p:nvSpPr>
          <p:spPr>
            <a:xfrm>
              <a:off x="3000600" y="3357360"/>
              <a:ext cx="541512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74" name="그룹 114"/>
            <p:cNvGrpSpPr/>
            <p:nvPr/>
          </p:nvGrpSpPr>
          <p:grpSpPr>
            <a:xfrm>
              <a:off x="1362240" y="3436560"/>
              <a:ext cx="7408800" cy="824040"/>
              <a:chOff x="1362240" y="3436560"/>
              <a:chExt cx="7408800" cy="824040"/>
            </a:xfrm>
          </p:grpSpPr>
          <p:sp>
            <p:nvSpPr>
              <p:cNvPr id="1575" name="직사각형 37"/>
              <p:cNvSpPr/>
              <p:nvPr/>
            </p:nvSpPr>
            <p:spPr>
              <a:xfrm>
                <a:off x="1599120" y="3436560"/>
                <a:ext cx="717192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회상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recall):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저장되어 있는 내용을 단서 없이 상기하는 과정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재인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recognition):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여러 항목들을 제시한 다음 기억하고 있는 것을 선택하는 과정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76" name="타원 31"/>
              <p:cNvGrpSpPr/>
              <p:nvPr/>
            </p:nvGrpSpPr>
            <p:grpSpPr>
              <a:xfrm>
                <a:off x="1362240" y="3578040"/>
                <a:ext cx="229320" cy="231480"/>
                <a:chOff x="1362240" y="3578040"/>
                <a:chExt cx="229320" cy="231480"/>
              </a:xfrm>
            </p:grpSpPr>
            <p:pic>
              <p:nvPicPr>
                <p:cNvPr id="1577" name="타원 31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362240" y="357804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78" name=""/>
                <p:cNvSpPr/>
                <p:nvPr/>
              </p:nvSpPr>
              <p:spPr>
                <a:xfrm rot="10800000">
                  <a:off x="1445040" y="36374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79" name="타원 32"/>
              <p:cNvGrpSpPr/>
              <p:nvPr/>
            </p:nvGrpSpPr>
            <p:grpSpPr>
              <a:xfrm>
                <a:off x="1362240" y="3962520"/>
                <a:ext cx="229320" cy="231480"/>
                <a:chOff x="1362240" y="3962520"/>
                <a:chExt cx="229320" cy="231480"/>
              </a:xfrm>
            </p:grpSpPr>
            <p:pic>
              <p:nvPicPr>
                <p:cNvPr id="1580" name="타원 32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62240" y="396252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81" name=""/>
                <p:cNvSpPr/>
                <p:nvPr/>
              </p:nvSpPr>
              <p:spPr>
                <a:xfrm rot="10800000">
                  <a:off x="1445040" y="40190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1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5" name="TextBox 12" descr=""/>
          <p:cNvPicPr/>
          <p:nvPr/>
        </p:nvPicPr>
        <p:blipFill>
          <a:blip r:embed="rId1"/>
          <a:stretch/>
        </p:blipFill>
        <p:spPr>
          <a:xfrm>
            <a:off x="5407200" y="506520"/>
            <a:ext cx="3792240" cy="590400"/>
          </a:xfrm>
          <a:prstGeom prst="rect">
            <a:avLst/>
          </a:prstGeom>
          <a:ln w="0">
            <a:noFill/>
          </a:ln>
        </p:spPr>
      </p:pic>
      <p:grpSp>
        <p:nvGrpSpPr>
          <p:cNvPr id="786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78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788" name="직사각형 13"/>
              <p:cNvSpPr/>
              <p:nvPr/>
            </p:nvSpPr>
            <p:spPr>
              <a:xfrm>
                <a:off x="1415880" y="1385640"/>
                <a:ext cx="31161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심리학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cognitive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psycholog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9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79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5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6" name="그룹 24"/>
          <p:cNvGrpSpPr/>
          <p:nvPr/>
        </p:nvGrpSpPr>
        <p:grpSpPr>
          <a:xfrm>
            <a:off x="285840" y="2000160"/>
            <a:ext cx="8501040" cy="1571760"/>
            <a:chOff x="285840" y="2000160"/>
            <a:chExt cx="8501040" cy="1571760"/>
          </a:xfrm>
        </p:grpSpPr>
        <p:grpSp>
          <p:nvGrpSpPr>
            <p:cNvPr id="797" name="그룹 34"/>
            <p:cNvGrpSpPr/>
            <p:nvPr/>
          </p:nvGrpSpPr>
          <p:grpSpPr>
            <a:xfrm>
              <a:off x="285840" y="2203200"/>
              <a:ext cx="8501040" cy="1368720"/>
              <a:chOff x="285840" y="2203200"/>
              <a:chExt cx="8501040" cy="1368720"/>
            </a:xfrm>
          </p:grpSpPr>
          <p:grpSp>
            <p:nvGrpSpPr>
              <p:cNvPr id="798" name="그룹 91"/>
              <p:cNvGrpSpPr/>
              <p:nvPr/>
            </p:nvGrpSpPr>
            <p:grpSpPr>
              <a:xfrm>
                <a:off x="285840" y="2203200"/>
                <a:ext cx="8501040" cy="1368720"/>
                <a:chOff x="285840" y="2203200"/>
                <a:chExt cx="8501040" cy="1368720"/>
              </a:xfrm>
            </p:grpSpPr>
            <p:pic>
              <p:nvPicPr>
                <p:cNvPr id="799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03200"/>
                  <a:ext cx="8501040" cy="13687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00" name="직사각형 36"/>
                <p:cNvSpPr/>
                <p:nvPr/>
              </p:nvSpPr>
              <p:spPr>
                <a:xfrm>
                  <a:off x="1214280" y="2545920"/>
                  <a:ext cx="757260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정신과정과 정신구조를 과학적으로 분석함으로써 인간행동을 이해하는 접근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어떤 과정을 통해서 지식을 획득한 지식을 활용하는지 탐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01" name="오른쪽 화살표 34"/>
              <p:cNvGrpSpPr/>
              <p:nvPr/>
            </p:nvGrpSpPr>
            <p:grpSpPr>
              <a:xfrm>
                <a:off x="883800" y="2663640"/>
                <a:ext cx="359640" cy="304920"/>
                <a:chOff x="883800" y="2663640"/>
                <a:chExt cx="359640" cy="304920"/>
              </a:xfrm>
            </p:grpSpPr>
            <p:pic>
              <p:nvPicPr>
                <p:cNvPr id="802" name="오른쪽 화살표 34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83800" y="2663640"/>
                  <a:ext cx="3596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03" name=""/>
                <p:cNvSpPr/>
                <p:nvPr/>
              </p:nvSpPr>
              <p:spPr>
                <a:xfrm>
                  <a:off x="928440" y="2752200"/>
                  <a:ext cx="176040" cy="76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04" name="그룹 44"/>
            <p:cNvGrpSpPr/>
            <p:nvPr/>
          </p:nvGrpSpPr>
          <p:grpSpPr>
            <a:xfrm>
              <a:off x="928440" y="2000160"/>
              <a:ext cx="7574040" cy="551160"/>
              <a:chOff x="928440" y="2000160"/>
              <a:chExt cx="7574040" cy="551160"/>
            </a:xfrm>
          </p:grpSpPr>
          <p:grpSp>
            <p:nvGrpSpPr>
              <p:cNvPr id="805" name="그룹 91"/>
              <p:cNvGrpSpPr/>
              <p:nvPr/>
            </p:nvGrpSpPr>
            <p:grpSpPr>
              <a:xfrm>
                <a:off x="928440" y="2000160"/>
                <a:ext cx="845640" cy="551160"/>
                <a:chOff x="928440" y="2000160"/>
                <a:chExt cx="845640" cy="551160"/>
              </a:xfrm>
            </p:grpSpPr>
            <p:grpSp>
              <p:nvGrpSpPr>
                <p:cNvPr id="806" name="그룹 34"/>
                <p:cNvGrpSpPr/>
                <p:nvPr/>
              </p:nvGrpSpPr>
              <p:grpSpPr>
                <a:xfrm>
                  <a:off x="928440" y="2104200"/>
                  <a:ext cx="348840" cy="343800"/>
                  <a:chOff x="928440" y="2104200"/>
                  <a:chExt cx="348840" cy="343800"/>
                </a:xfrm>
              </p:grpSpPr>
              <p:pic>
                <p:nvPicPr>
                  <p:cNvPr id="807" name="Picture 177" descr="bull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928440" y="2108880"/>
                    <a:ext cx="348840" cy="33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08" name="TextBox 36"/>
                  <p:cNvSpPr/>
                  <p:nvPr/>
                </p:nvSpPr>
                <p:spPr>
                  <a:xfrm>
                    <a:off x="957600" y="210420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09" name="직사각형 30"/>
                <p:cNvSpPr/>
                <p:nvPr/>
              </p:nvSpPr>
              <p:spPr>
                <a:xfrm>
                  <a:off x="1288440" y="2000160"/>
                  <a:ext cx="4856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미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10" name="직선 연결선 28"/>
              <p:cNvSpPr/>
              <p:nvPr/>
            </p:nvSpPr>
            <p:spPr>
              <a:xfrm>
                <a:off x="3214440" y="2271600"/>
                <a:ext cx="52880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11" name="그룹 37"/>
          <p:cNvGrpSpPr/>
          <p:nvPr/>
        </p:nvGrpSpPr>
        <p:grpSpPr>
          <a:xfrm>
            <a:off x="285840" y="3857760"/>
            <a:ext cx="8501040" cy="2143080"/>
            <a:chOff x="285840" y="3857760"/>
            <a:chExt cx="8501040" cy="2143080"/>
          </a:xfrm>
        </p:grpSpPr>
        <p:grpSp>
          <p:nvGrpSpPr>
            <p:cNvPr id="812" name="그룹 37"/>
            <p:cNvGrpSpPr/>
            <p:nvPr/>
          </p:nvGrpSpPr>
          <p:grpSpPr>
            <a:xfrm>
              <a:off x="285840" y="3857760"/>
              <a:ext cx="8501040" cy="2143080"/>
              <a:chOff x="285840" y="3857760"/>
              <a:chExt cx="8501040" cy="2143080"/>
            </a:xfrm>
          </p:grpSpPr>
          <p:grpSp>
            <p:nvGrpSpPr>
              <p:cNvPr id="813" name="그룹 91"/>
              <p:cNvGrpSpPr/>
              <p:nvPr/>
            </p:nvGrpSpPr>
            <p:grpSpPr>
              <a:xfrm>
                <a:off x="285840" y="4071960"/>
                <a:ext cx="8501040" cy="1928880"/>
                <a:chOff x="285840" y="4071960"/>
                <a:chExt cx="8501040" cy="1928880"/>
              </a:xfrm>
            </p:grpSpPr>
            <p:pic>
              <p:nvPicPr>
                <p:cNvPr id="814" name="Picture 5" descr="233"/>
                <p:cNvPicPr/>
                <p:nvPr/>
              </p:nvPicPr>
              <p:blipFill>
                <a:blip r:embed="rId6"/>
                <a:srcRect l="0" t="0" r="24313" b="0"/>
                <a:stretch/>
              </p:blipFill>
              <p:spPr>
                <a:xfrm>
                  <a:off x="285840" y="4071960"/>
                  <a:ext cx="8501040" cy="19288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15" name="직사각형 49"/>
                <p:cNvSpPr/>
                <p:nvPr/>
              </p:nvSpPr>
              <p:spPr>
                <a:xfrm>
                  <a:off x="1214280" y="4313160"/>
                  <a:ext cx="7500960" cy="146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지는 정보를 획득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이해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변형하는 정신활동을 의미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유기체를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‘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White Box’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로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가정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지과정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.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이것은 인지과정을 이해할 수 있고 이해하는 것이 중요하다는 것을 의미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16" name="그룹 44"/>
              <p:cNvGrpSpPr/>
              <p:nvPr/>
            </p:nvGrpSpPr>
            <p:grpSpPr>
              <a:xfrm>
                <a:off x="928440" y="3857760"/>
                <a:ext cx="7574040" cy="551160"/>
                <a:chOff x="928440" y="3857760"/>
                <a:chExt cx="7574040" cy="551160"/>
              </a:xfrm>
            </p:grpSpPr>
            <p:grpSp>
              <p:nvGrpSpPr>
                <p:cNvPr id="817" name="그룹 91"/>
                <p:cNvGrpSpPr/>
                <p:nvPr/>
              </p:nvGrpSpPr>
              <p:grpSpPr>
                <a:xfrm>
                  <a:off x="928440" y="3857760"/>
                  <a:ext cx="845640" cy="551160"/>
                  <a:chOff x="928440" y="3857760"/>
                  <a:chExt cx="845640" cy="551160"/>
                </a:xfrm>
              </p:grpSpPr>
              <p:grpSp>
                <p:nvGrpSpPr>
                  <p:cNvPr id="818" name="그룹 34"/>
                  <p:cNvGrpSpPr/>
                  <p:nvPr/>
                </p:nvGrpSpPr>
                <p:grpSpPr>
                  <a:xfrm>
                    <a:off x="928440" y="3967200"/>
                    <a:ext cx="348840" cy="361800"/>
                    <a:chOff x="928440" y="3967200"/>
                    <a:chExt cx="348840" cy="361800"/>
                  </a:xfrm>
                </p:grpSpPr>
                <p:pic>
                  <p:nvPicPr>
                    <p:cNvPr id="819" name="Picture 177" descr="bull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928440" y="3974400"/>
                      <a:ext cx="348840" cy="35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20" name="TextBox 36"/>
                    <p:cNvSpPr/>
                    <p:nvPr/>
                  </p:nvSpPr>
                  <p:spPr>
                    <a:xfrm>
                      <a:off x="957600" y="39672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21" name="직사각형 43"/>
                  <p:cNvSpPr/>
                  <p:nvPr/>
                </p:nvSpPr>
                <p:spPr>
                  <a:xfrm>
                    <a:off x="1288440" y="3857760"/>
                    <a:ext cx="485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특징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22" name="직선 연결선 41"/>
                <p:cNvSpPr/>
                <p:nvPr/>
              </p:nvSpPr>
              <p:spPr>
                <a:xfrm>
                  <a:off x="3214440" y="4143600"/>
                  <a:ext cx="5288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23" name="타원 50"/>
            <p:cNvGrpSpPr/>
            <p:nvPr/>
          </p:nvGrpSpPr>
          <p:grpSpPr>
            <a:xfrm>
              <a:off x="1005840" y="4505040"/>
              <a:ext cx="225360" cy="231480"/>
              <a:chOff x="1005840" y="4505040"/>
              <a:chExt cx="225360" cy="231480"/>
            </a:xfrm>
          </p:grpSpPr>
          <p:pic>
            <p:nvPicPr>
              <p:cNvPr id="824" name="타원 50" descr=""/>
              <p:cNvPicPr/>
              <p:nvPr/>
            </p:nvPicPr>
            <p:blipFill>
              <a:blip r:embed="rId8"/>
              <a:stretch/>
            </p:blipFill>
            <p:spPr>
              <a:xfrm>
                <a:off x="1005840" y="45050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5" name=""/>
              <p:cNvSpPr/>
              <p:nvPr/>
            </p:nvSpPr>
            <p:spPr>
              <a:xfrm rot="10800000">
                <a:off x="1085760" y="4559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26" name="타원 51"/>
            <p:cNvGrpSpPr/>
            <p:nvPr/>
          </p:nvGrpSpPr>
          <p:grpSpPr>
            <a:xfrm>
              <a:off x="1005840" y="5029200"/>
              <a:ext cx="225360" cy="231480"/>
              <a:chOff x="1005840" y="5029200"/>
              <a:chExt cx="225360" cy="231480"/>
            </a:xfrm>
          </p:grpSpPr>
          <p:pic>
            <p:nvPicPr>
              <p:cNvPr id="827" name="타원 51" descr=""/>
              <p:cNvPicPr/>
              <p:nvPr/>
            </p:nvPicPr>
            <p:blipFill>
              <a:blip r:embed="rId9"/>
              <a:stretch/>
            </p:blipFill>
            <p:spPr>
              <a:xfrm>
                <a:off x="1005840" y="50292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8" name=""/>
              <p:cNvSpPr/>
              <p:nvPr/>
            </p:nvSpPr>
            <p:spPr>
              <a:xfrm rot="10800000">
                <a:off x="1085760" y="50864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2" name="TextBox 12" descr=""/>
          <p:cNvPicPr/>
          <p:nvPr/>
        </p:nvPicPr>
        <p:blipFill>
          <a:blip r:embed="rId1"/>
          <a:stretch/>
        </p:blipFill>
        <p:spPr>
          <a:xfrm>
            <a:off x="7607160" y="506520"/>
            <a:ext cx="1597320" cy="590400"/>
          </a:xfrm>
          <a:prstGeom prst="rect">
            <a:avLst/>
          </a:prstGeom>
          <a:ln w="0">
            <a:noFill/>
          </a:ln>
        </p:spPr>
      </p:pic>
      <p:sp>
        <p:nvSpPr>
          <p:cNvPr id="1583" name="Line 34"/>
          <p:cNvSpPr/>
          <p:nvPr/>
        </p:nvSpPr>
        <p:spPr>
          <a:xfrm>
            <a:off x="2928960" y="4429080"/>
            <a:ext cx="5572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4" name="그룹 29"/>
          <p:cNvGrpSpPr/>
          <p:nvPr/>
        </p:nvGrpSpPr>
        <p:grpSpPr>
          <a:xfrm>
            <a:off x="357120" y="3500280"/>
            <a:ext cx="2214720" cy="3000600"/>
            <a:chOff x="357120" y="3500280"/>
            <a:chExt cx="2214720" cy="3000600"/>
          </a:xfrm>
        </p:grpSpPr>
        <p:pic>
          <p:nvPicPr>
            <p:cNvPr id="1585" name="그림 30" descr="그림4.png"/>
            <p:cNvPicPr/>
            <p:nvPr/>
          </p:nvPicPr>
          <p:blipFill>
            <a:blip r:embed="rId2"/>
            <a:stretch/>
          </p:blipFill>
          <p:spPr>
            <a:xfrm>
              <a:off x="1046160" y="3500280"/>
              <a:ext cx="1525680" cy="3000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6" name="그림 31" descr="그림1.png"/>
            <p:cNvPicPr/>
            <p:nvPr/>
          </p:nvPicPr>
          <p:blipFill>
            <a:blip r:embed="rId3"/>
            <a:stretch/>
          </p:blipFill>
          <p:spPr>
            <a:xfrm>
              <a:off x="1064520" y="3507480"/>
              <a:ext cx="1217880" cy="103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7" name="그림 32" descr="그림2.png"/>
            <p:cNvPicPr/>
            <p:nvPr/>
          </p:nvPicPr>
          <p:blipFill>
            <a:blip r:embed="rId4"/>
            <a:stretch/>
          </p:blipFill>
          <p:spPr>
            <a:xfrm>
              <a:off x="1685520" y="4128120"/>
              <a:ext cx="864360" cy="1741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8" name="그림 33" descr="그림3.png"/>
            <p:cNvPicPr/>
            <p:nvPr/>
          </p:nvPicPr>
          <p:blipFill>
            <a:blip r:embed="rId5"/>
            <a:stretch/>
          </p:blipFill>
          <p:spPr>
            <a:xfrm>
              <a:off x="1055160" y="5446800"/>
              <a:ext cx="1225440" cy="1048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589" name="Group 15"/>
            <p:cNvGrpSpPr/>
            <p:nvPr/>
          </p:nvGrpSpPr>
          <p:grpSpPr>
            <a:xfrm>
              <a:off x="357120" y="4370040"/>
              <a:ext cx="1327680" cy="1339920"/>
              <a:chOff x="357120" y="4370040"/>
              <a:chExt cx="1327680" cy="1339920"/>
            </a:xfrm>
          </p:grpSpPr>
          <p:pic>
            <p:nvPicPr>
              <p:cNvPr id="1590" name="Picture 16" descr="circuler_1"/>
              <p:cNvPicPr/>
              <p:nvPr/>
            </p:nvPicPr>
            <p:blipFill>
              <a:blip r:embed="rId6"/>
              <a:stretch/>
            </p:blipFill>
            <p:spPr>
              <a:xfrm>
                <a:off x="357120" y="4370040"/>
                <a:ext cx="1327680" cy="12780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591" name="Oval 17"/>
              <p:cNvGrpSpPr/>
              <p:nvPr/>
            </p:nvGrpSpPr>
            <p:grpSpPr>
              <a:xfrm>
                <a:off x="357120" y="4370040"/>
                <a:ext cx="1321920" cy="1284120"/>
                <a:chOff x="357120" y="4370040"/>
                <a:chExt cx="1321920" cy="1284120"/>
              </a:xfrm>
            </p:grpSpPr>
            <p:pic>
              <p:nvPicPr>
                <p:cNvPr id="1592" name="Oval 17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357120" y="4370040"/>
                  <a:ext cx="1321920" cy="1284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93" name=""/>
                <p:cNvSpPr/>
                <p:nvPr/>
              </p:nvSpPr>
              <p:spPr>
                <a:xfrm>
                  <a:off x="552240" y="4563000"/>
                  <a:ext cx="926280" cy="89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94" name="Freeform 18"/>
              <p:cNvSpPr/>
              <p:nvPr/>
            </p:nvSpPr>
            <p:spPr>
              <a:xfrm>
                <a:off x="497520" y="4402800"/>
                <a:ext cx="1027800" cy="4395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dddd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95" name="Group 19"/>
              <p:cNvGrpSpPr/>
              <p:nvPr/>
            </p:nvGrpSpPr>
            <p:grpSpPr>
              <a:xfrm>
                <a:off x="464400" y="5230080"/>
                <a:ext cx="1173600" cy="479880"/>
                <a:chOff x="464400" y="5230080"/>
                <a:chExt cx="1173600" cy="479880"/>
              </a:xfrm>
            </p:grpSpPr>
            <p:grpSp>
              <p:nvGrpSpPr>
                <p:cNvPr id="1596" name="Group 20"/>
                <p:cNvGrpSpPr/>
                <p:nvPr/>
              </p:nvGrpSpPr>
              <p:grpSpPr>
                <a:xfrm>
                  <a:off x="682920" y="5230080"/>
                  <a:ext cx="955080" cy="433080"/>
                  <a:chOff x="682920" y="5230080"/>
                  <a:chExt cx="955080" cy="433080"/>
                </a:xfrm>
              </p:grpSpPr>
              <p:sp>
                <p:nvSpPr>
                  <p:cNvPr id="1597" name="AutoShape 21"/>
                  <p:cNvSpPr/>
                  <p:nvPr/>
                </p:nvSpPr>
                <p:spPr>
                  <a:xfrm flipH="1" flipV="1" rot="3964800">
                    <a:off x="1204200" y="5099400"/>
                    <a:ext cx="166320" cy="69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8" name="AutoShape 22"/>
                  <p:cNvSpPr/>
                  <p:nvPr/>
                </p:nvSpPr>
                <p:spPr>
                  <a:xfrm flipH="1" flipV="1" rot="4780200">
                    <a:off x="1096200" y="5141520"/>
                    <a:ext cx="166680" cy="69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9" name="AutoShape 23"/>
                  <p:cNvSpPr/>
                  <p:nvPr/>
                </p:nvSpPr>
                <p:spPr>
                  <a:xfrm flipH="1" flipV="1" rot="5076000">
                    <a:off x="1031040" y="5149800"/>
                    <a:ext cx="166320" cy="69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0" name="AutoShape 24"/>
                  <p:cNvSpPr/>
                  <p:nvPr/>
                </p:nvSpPr>
                <p:spPr>
                  <a:xfrm flipH="1" flipV="1" rot="5608200">
                    <a:off x="950040" y="5159880"/>
                    <a:ext cx="166320" cy="6930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01" name="Group 25"/>
                <p:cNvGrpSpPr/>
                <p:nvPr/>
              </p:nvGrpSpPr>
              <p:grpSpPr>
                <a:xfrm>
                  <a:off x="464400" y="5256720"/>
                  <a:ext cx="952560" cy="453240"/>
                  <a:chOff x="464400" y="5256720"/>
                  <a:chExt cx="952560" cy="453240"/>
                </a:xfrm>
              </p:grpSpPr>
              <p:sp>
                <p:nvSpPr>
                  <p:cNvPr id="1602" name="AutoShape 26"/>
                  <p:cNvSpPr/>
                  <p:nvPr/>
                </p:nvSpPr>
                <p:spPr>
                  <a:xfrm flipH="1" flipV="1" rot="5317800">
                    <a:off x="984600" y="5178240"/>
                    <a:ext cx="165960" cy="69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3" name="AutoShape 27"/>
                  <p:cNvSpPr/>
                  <p:nvPr/>
                </p:nvSpPr>
                <p:spPr>
                  <a:xfrm flipH="1" flipV="1" rot="6133800">
                    <a:off x="868320" y="5177160"/>
                    <a:ext cx="166320" cy="69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4" name="AutoShape 28"/>
                  <p:cNvSpPr/>
                  <p:nvPr/>
                </p:nvSpPr>
                <p:spPr>
                  <a:xfrm flipH="1" flipV="1" rot="6429000">
                    <a:off x="803880" y="5158800"/>
                    <a:ext cx="165960" cy="694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5" name="AutoShape 29"/>
                  <p:cNvSpPr/>
                  <p:nvPr/>
                </p:nvSpPr>
                <p:spPr>
                  <a:xfrm flipH="1" flipV="1" rot="6961200">
                    <a:off x="729360" y="5136120"/>
                    <a:ext cx="165960" cy="69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pic>
        <p:nvPicPr>
          <p:cNvPr id="1606" name="직사각형 49" descr=""/>
          <p:cNvPicPr/>
          <p:nvPr/>
        </p:nvPicPr>
        <p:blipFill>
          <a:blip r:embed="rId8"/>
          <a:stretch/>
        </p:blipFill>
        <p:spPr>
          <a:xfrm>
            <a:off x="2700360" y="3475080"/>
            <a:ext cx="5986440" cy="888840"/>
          </a:xfrm>
          <a:prstGeom prst="rect">
            <a:avLst/>
          </a:prstGeom>
          <a:ln w="0">
            <a:noFill/>
          </a:ln>
        </p:spPr>
      </p:pic>
      <p:pic>
        <p:nvPicPr>
          <p:cNvPr id="1607" name="직사각형 50" descr=""/>
          <p:cNvPicPr/>
          <p:nvPr/>
        </p:nvPicPr>
        <p:blipFill>
          <a:blip r:embed="rId9"/>
          <a:stretch/>
        </p:blipFill>
        <p:spPr>
          <a:xfrm>
            <a:off x="2755800" y="4548240"/>
            <a:ext cx="6680160" cy="888840"/>
          </a:xfrm>
          <a:prstGeom prst="rect">
            <a:avLst/>
          </a:prstGeom>
          <a:ln w="0">
            <a:noFill/>
          </a:ln>
        </p:spPr>
      </p:pic>
      <p:pic>
        <p:nvPicPr>
          <p:cNvPr id="1608" name="직사각형 51" descr=""/>
          <p:cNvPicPr/>
          <p:nvPr/>
        </p:nvPicPr>
        <p:blipFill>
          <a:blip r:embed="rId10"/>
          <a:stretch/>
        </p:blipFill>
        <p:spPr>
          <a:xfrm>
            <a:off x="2700360" y="5688000"/>
            <a:ext cx="6035760" cy="888840"/>
          </a:xfrm>
          <a:prstGeom prst="rect">
            <a:avLst/>
          </a:prstGeom>
          <a:ln w="0">
            <a:noFill/>
          </a:ln>
        </p:spPr>
      </p:pic>
      <p:sp>
        <p:nvSpPr>
          <p:cNvPr id="1609" name="Line 34"/>
          <p:cNvSpPr/>
          <p:nvPr/>
        </p:nvSpPr>
        <p:spPr>
          <a:xfrm>
            <a:off x="2928960" y="5572080"/>
            <a:ext cx="5572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0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611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612" name="직사각형 13"/>
              <p:cNvSpPr/>
              <p:nvPr/>
            </p:nvSpPr>
            <p:spPr>
              <a:xfrm>
                <a:off x="1312200" y="1385640"/>
                <a:ext cx="2573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왜곡이론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distortion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theor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3" name="직선 연결선 56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1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61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617" name="Freeform 5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1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619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0" name="그룹 173"/>
          <p:cNvGrpSpPr/>
          <p:nvPr/>
        </p:nvGrpSpPr>
        <p:grpSpPr>
          <a:xfrm>
            <a:off x="285840" y="1857240"/>
            <a:ext cx="8572320" cy="1643040"/>
            <a:chOff x="285840" y="1857240"/>
            <a:chExt cx="8572320" cy="1643040"/>
          </a:xfrm>
        </p:grpSpPr>
        <p:grpSp>
          <p:nvGrpSpPr>
            <p:cNvPr id="1621" name="그룹 91"/>
            <p:cNvGrpSpPr/>
            <p:nvPr/>
          </p:nvGrpSpPr>
          <p:grpSpPr>
            <a:xfrm>
              <a:off x="285840" y="1857240"/>
              <a:ext cx="8572320" cy="1643040"/>
              <a:chOff x="285840" y="1857240"/>
              <a:chExt cx="8572320" cy="1643040"/>
            </a:xfrm>
          </p:grpSpPr>
          <p:pic>
            <p:nvPicPr>
              <p:cNvPr id="1622" name="Picture 5" descr="233"/>
              <p:cNvPicPr/>
              <p:nvPr/>
            </p:nvPicPr>
            <p:blipFill>
              <a:blip r:embed="rId12"/>
              <a:srcRect l="0" t="0" r="24313" b="0"/>
              <a:stretch/>
            </p:blipFill>
            <p:spPr>
              <a:xfrm>
                <a:off x="285840" y="1999800"/>
                <a:ext cx="8501040" cy="15004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623" name="직사각형 62"/>
              <p:cNvSpPr/>
              <p:nvPr/>
            </p:nvSpPr>
            <p:spPr>
              <a:xfrm>
                <a:off x="1143000" y="1857240"/>
                <a:ext cx="7715160" cy="146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은 기억의 왜곡에서 기인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억이 왜곡되는 것은 경험의 모든 측면들을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완전히 기억할 수 없어서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재구성하기 때문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재구성이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사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중요하고 특징적인 사항을 강조해야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24" name="타원 59"/>
            <p:cNvGrpSpPr/>
            <p:nvPr/>
          </p:nvGrpSpPr>
          <p:grpSpPr>
            <a:xfrm>
              <a:off x="932760" y="2145600"/>
              <a:ext cx="225360" cy="231480"/>
              <a:chOff x="932760" y="2145600"/>
              <a:chExt cx="225360" cy="231480"/>
            </a:xfrm>
          </p:grpSpPr>
          <p:pic>
            <p:nvPicPr>
              <p:cNvPr id="1625" name="타원 59" descr=""/>
              <p:cNvPicPr/>
              <p:nvPr/>
            </p:nvPicPr>
            <p:blipFill>
              <a:blip r:embed="rId13"/>
              <a:stretch/>
            </p:blipFill>
            <p:spPr>
              <a:xfrm>
                <a:off x="932760" y="21456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26" name=""/>
              <p:cNvSpPr/>
              <p:nvPr/>
            </p:nvSpPr>
            <p:spPr>
              <a:xfrm rot="10800000">
                <a:off x="1014480" y="22021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27" name="타원 60"/>
            <p:cNvGrpSpPr/>
            <p:nvPr/>
          </p:nvGrpSpPr>
          <p:grpSpPr>
            <a:xfrm>
              <a:off x="932760" y="2956320"/>
              <a:ext cx="225360" cy="231480"/>
              <a:chOff x="932760" y="2956320"/>
              <a:chExt cx="225360" cy="231480"/>
            </a:xfrm>
          </p:grpSpPr>
          <p:pic>
            <p:nvPicPr>
              <p:cNvPr id="1628" name="타원 60" descr=""/>
              <p:cNvPicPr/>
              <p:nvPr/>
            </p:nvPicPr>
            <p:blipFill>
              <a:blip r:embed="rId14"/>
              <a:stretch/>
            </p:blipFill>
            <p:spPr>
              <a:xfrm>
                <a:off x="932760" y="29563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29" name=""/>
              <p:cNvSpPr/>
              <p:nvPr/>
            </p:nvSpPr>
            <p:spPr>
              <a:xfrm rot="10800000">
                <a:off x="1014480" y="30142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630" name="TextBox 63" descr=""/>
          <p:cNvPicPr/>
          <p:nvPr/>
        </p:nvPicPr>
        <p:blipFill>
          <a:blip r:embed="rId15"/>
          <a:stretch/>
        </p:blipFill>
        <p:spPr>
          <a:xfrm>
            <a:off x="579600" y="4827600"/>
            <a:ext cx="852480" cy="63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1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1" name="TextBox 12" descr=""/>
          <p:cNvPicPr/>
          <p:nvPr/>
        </p:nvPicPr>
        <p:blipFill>
          <a:blip r:embed="rId1"/>
          <a:stretch/>
        </p:blipFill>
        <p:spPr>
          <a:xfrm>
            <a:off x="7016760" y="506520"/>
            <a:ext cx="2182680" cy="590400"/>
          </a:xfrm>
          <a:prstGeom prst="rect">
            <a:avLst/>
          </a:prstGeom>
          <a:ln w="0">
            <a:noFill/>
          </a:ln>
        </p:spPr>
      </p:pic>
      <p:grpSp>
        <p:nvGrpSpPr>
          <p:cNvPr id="1632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63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634" name="직사각형 13"/>
              <p:cNvSpPr/>
              <p:nvPr/>
            </p:nvSpPr>
            <p:spPr>
              <a:xfrm>
                <a:off x="1338120" y="1385640"/>
                <a:ext cx="2761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학습전략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learning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strategies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5" name="직선 연결선 20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3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63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3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63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4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641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2" name="그룹 63"/>
          <p:cNvGrpSpPr/>
          <p:nvPr/>
        </p:nvGrpSpPr>
        <p:grpSpPr>
          <a:xfrm>
            <a:off x="285840" y="2000160"/>
            <a:ext cx="8501040" cy="1571760"/>
            <a:chOff x="285840" y="2000160"/>
            <a:chExt cx="8501040" cy="1571760"/>
          </a:xfrm>
        </p:grpSpPr>
        <p:grpSp>
          <p:nvGrpSpPr>
            <p:cNvPr id="1643" name="그룹 34"/>
            <p:cNvGrpSpPr/>
            <p:nvPr/>
          </p:nvGrpSpPr>
          <p:grpSpPr>
            <a:xfrm>
              <a:off x="285840" y="2203560"/>
              <a:ext cx="8501040" cy="1368360"/>
              <a:chOff x="285840" y="2203560"/>
              <a:chExt cx="8501040" cy="1368360"/>
            </a:xfrm>
          </p:grpSpPr>
          <p:grpSp>
            <p:nvGrpSpPr>
              <p:cNvPr id="1644" name="그룹 91"/>
              <p:cNvGrpSpPr/>
              <p:nvPr/>
            </p:nvGrpSpPr>
            <p:grpSpPr>
              <a:xfrm>
                <a:off x="285840" y="2203560"/>
                <a:ext cx="8501040" cy="1368360"/>
                <a:chOff x="285840" y="2203560"/>
                <a:chExt cx="8501040" cy="1368360"/>
              </a:xfrm>
            </p:grpSpPr>
            <p:pic>
              <p:nvPicPr>
                <p:cNvPr id="1645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03560"/>
                  <a:ext cx="8501040" cy="13683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646" name="직사각형 33"/>
                <p:cNvSpPr/>
                <p:nvPr/>
              </p:nvSpPr>
              <p:spPr>
                <a:xfrm>
                  <a:off x="1214280" y="2546280"/>
                  <a:ext cx="757260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목표를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달성하기 위한 전략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지전략과 메타인지전략을 포함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47" name="오른쪽 화살표 31"/>
              <p:cNvGrpSpPr/>
              <p:nvPr/>
            </p:nvGrpSpPr>
            <p:grpSpPr>
              <a:xfrm>
                <a:off x="883800" y="2663640"/>
                <a:ext cx="359640" cy="304920"/>
                <a:chOff x="883800" y="2663640"/>
                <a:chExt cx="359640" cy="304920"/>
              </a:xfrm>
            </p:grpSpPr>
            <p:pic>
              <p:nvPicPr>
                <p:cNvPr id="1648" name="오른쪽 화살표 31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83800" y="2663640"/>
                  <a:ext cx="3596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49" name=""/>
                <p:cNvSpPr/>
                <p:nvPr/>
              </p:nvSpPr>
              <p:spPr>
                <a:xfrm>
                  <a:off x="928440" y="2752200"/>
                  <a:ext cx="176040" cy="75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50" name="그룹 44"/>
            <p:cNvGrpSpPr/>
            <p:nvPr/>
          </p:nvGrpSpPr>
          <p:grpSpPr>
            <a:xfrm>
              <a:off x="928440" y="2000160"/>
              <a:ext cx="7574040" cy="551160"/>
              <a:chOff x="928440" y="2000160"/>
              <a:chExt cx="7574040" cy="551160"/>
            </a:xfrm>
          </p:grpSpPr>
          <p:grpSp>
            <p:nvGrpSpPr>
              <p:cNvPr id="1651" name="그룹 91"/>
              <p:cNvGrpSpPr/>
              <p:nvPr/>
            </p:nvGrpSpPr>
            <p:grpSpPr>
              <a:xfrm>
                <a:off x="928440" y="2000160"/>
                <a:ext cx="845640" cy="551160"/>
                <a:chOff x="928440" y="2000160"/>
                <a:chExt cx="845640" cy="551160"/>
              </a:xfrm>
            </p:grpSpPr>
            <p:grpSp>
              <p:nvGrpSpPr>
                <p:cNvPr id="1652" name="그룹 34"/>
                <p:cNvGrpSpPr/>
                <p:nvPr/>
              </p:nvGrpSpPr>
              <p:grpSpPr>
                <a:xfrm>
                  <a:off x="928440" y="2104200"/>
                  <a:ext cx="348840" cy="343800"/>
                  <a:chOff x="928440" y="2104200"/>
                  <a:chExt cx="348840" cy="343800"/>
                </a:xfrm>
              </p:grpSpPr>
              <p:pic>
                <p:nvPicPr>
                  <p:cNvPr id="1653" name="Picture 177" descr="bull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928440" y="2108880"/>
                    <a:ext cx="348840" cy="33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54" name="TextBox 36"/>
                  <p:cNvSpPr/>
                  <p:nvPr/>
                </p:nvSpPr>
                <p:spPr>
                  <a:xfrm>
                    <a:off x="957600" y="210420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5" name="직사각형 27"/>
                <p:cNvSpPr/>
                <p:nvPr/>
              </p:nvSpPr>
              <p:spPr>
                <a:xfrm>
                  <a:off x="1288440" y="2000160"/>
                  <a:ext cx="4856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미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56" name="직선 연결선 25"/>
              <p:cNvSpPr/>
              <p:nvPr/>
            </p:nvSpPr>
            <p:spPr>
              <a:xfrm>
                <a:off x="3214440" y="2271600"/>
                <a:ext cx="52880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57" name="타원 34"/>
          <p:cNvGrpSpPr/>
          <p:nvPr/>
        </p:nvGrpSpPr>
        <p:grpSpPr>
          <a:xfrm>
            <a:off x="933480" y="3103560"/>
            <a:ext cx="225360" cy="230040"/>
            <a:chOff x="933480" y="3103560"/>
            <a:chExt cx="225360" cy="230040"/>
          </a:xfrm>
        </p:grpSpPr>
        <p:pic>
          <p:nvPicPr>
            <p:cNvPr id="1658" name="타원 34" descr=""/>
            <p:cNvPicPr/>
            <p:nvPr/>
          </p:nvPicPr>
          <p:blipFill>
            <a:blip r:embed="rId6"/>
            <a:stretch/>
          </p:blipFill>
          <p:spPr>
            <a:xfrm>
              <a:off x="933480" y="3103560"/>
              <a:ext cx="225360" cy="23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9" name=""/>
            <p:cNvSpPr/>
            <p:nvPr/>
          </p:nvSpPr>
          <p:spPr>
            <a:xfrm rot="10800000">
              <a:off x="1014480" y="31575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0" name="그룹 63"/>
          <p:cNvGrpSpPr/>
          <p:nvPr/>
        </p:nvGrpSpPr>
        <p:grpSpPr>
          <a:xfrm>
            <a:off x="285840" y="3714840"/>
            <a:ext cx="8501040" cy="2000160"/>
            <a:chOff x="285840" y="3714840"/>
            <a:chExt cx="8501040" cy="2000160"/>
          </a:xfrm>
        </p:grpSpPr>
        <p:grpSp>
          <p:nvGrpSpPr>
            <p:cNvPr id="1661" name="그룹 91"/>
            <p:cNvGrpSpPr/>
            <p:nvPr/>
          </p:nvGrpSpPr>
          <p:grpSpPr>
            <a:xfrm>
              <a:off x="285840" y="3918240"/>
              <a:ext cx="8501040" cy="1796760"/>
              <a:chOff x="285840" y="3918240"/>
              <a:chExt cx="8501040" cy="1796760"/>
            </a:xfrm>
          </p:grpSpPr>
          <p:pic>
            <p:nvPicPr>
              <p:cNvPr id="1662" name="Picture 5" descr="233"/>
              <p:cNvPicPr/>
              <p:nvPr/>
            </p:nvPicPr>
            <p:blipFill>
              <a:blip r:embed="rId7"/>
              <a:srcRect l="0" t="0" r="24313" b="0"/>
              <a:stretch/>
            </p:blipFill>
            <p:spPr>
              <a:xfrm>
                <a:off x="285840" y="3918240"/>
                <a:ext cx="8501040" cy="17967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663" name="직사각형 47"/>
              <p:cNvSpPr/>
              <p:nvPr/>
            </p:nvSpPr>
            <p:spPr>
              <a:xfrm>
                <a:off x="1357200" y="4260960"/>
                <a:ext cx="6286680" cy="132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노트필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요약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중요한 정보의 확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64" name="그룹 44"/>
            <p:cNvGrpSpPr/>
            <p:nvPr/>
          </p:nvGrpSpPr>
          <p:grpSpPr>
            <a:xfrm>
              <a:off x="928440" y="3714840"/>
              <a:ext cx="7574040" cy="551160"/>
              <a:chOff x="928440" y="3714840"/>
              <a:chExt cx="7574040" cy="551160"/>
            </a:xfrm>
          </p:grpSpPr>
          <p:grpSp>
            <p:nvGrpSpPr>
              <p:cNvPr id="1665" name="그룹 91"/>
              <p:cNvGrpSpPr/>
              <p:nvPr/>
            </p:nvGrpSpPr>
            <p:grpSpPr>
              <a:xfrm>
                <a:off x="928440" y="3714840"/>
                <a:ext cx="1951920" cy="551160"/>
                <a:chOff x="928440" y="3714840"/>
                <a:chExt cx="1951920" cy="551160"/>
              </a:xfrm>
            </p:grpSpPr>
            <p:grpSp>
              <p:nvGrpSpPr>
                <p:cNvPr id="1666" name="그룹 34"/>
                <p:cNvGrpSpPr/>
                <p:nvPr/>
              </p:nvGrpSpPr>
              <p:grpSpPr>
                <a:xfrm>
                  <a:off x="928440" y="3818520"/>
                  <a:ext cx="349200" cy="343440"/>
                  <a:chOff x="928440" y="3818520"/>
                  <a:chExt cx="349200" cy="343440"/>
                </a:xfrm>
              </p:grpSpPr>
              <p:pic>
                <p:nvPicPr>
                  <p:cNvPr id="1667" name="Picture 177" descr="bull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928440" y="3821760"/>
                    <a:ext cx="349200" cy="34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68" name="TextBox 36"/>
                  <p:cNvSpPr/>
                  <p:nvPr/>
                </p:nvSpPr>
                <p:spPr>
                  <a:xfrm>
                    <a:off x="957960" y="38185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2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69" name="직사각형 41"/>
                <p:cNvSpPr/>
                <p:nvPr/>
              </p:nvSpPr>
              <p:spPr>
                <a:xfrm>
                  <a:off x="1567440" y="3714840"/>
                  <a:ext cx="131292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학습전략의 종류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70" name="직선 연결선 39"/>
              <p:cNvSpPr/>
              <p:nvPr/>
            </p:nvSpPr>
            <p:spPr>
              <a:xfrm>
                <a:off x="3214440" y="3986280"/>
                <a:ext cx="52880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71" name="그룹 97"/>
          <p:cNvGrpSpPr/>
          <p:nvPr/>
        </p:nvGrpSpPr>
        <p:grpSpPr>
          <a:xfrm>
            <a:off x="1066680" y="4319640"/>
            <a:ext cx="295200" cy="337320"/>
            <a:chOff x="1066680" y="4319640"/>
            <a:chExt cx="295200" cy="337320"/>
          </a:xfrm>
        </p:grpSpPr>
        <p:pic>
          <p:nvPicPr>
            <p:cNvPr id="1672" name="Picture 177" descr="bull"/>
            <p:cNvPicPr/>
            <p:nvPr/>
          </p:nvPicPr>
          <p:blipFill>
            <a:blip r:embed="rId9"/>
            <a:stretch/>
          </p:blipFill>
          <p:spPr>
            <a:xfrm>
              <a:off x="1073160" y="4376160"/>
              <a:ext cx="284040" cy="2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3" name="TextBox 146"/>
            <p:cNvSpPr/>
            <p:nvPr/>
          </p:nvSpPr>
          <p:spPr>
            <a:xfrm>
              <a:off x="1066680" y="431964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4" name="그룹 97"/>
          <p:cNvGrpSpPr/>
          <p:nvPr/>
        </p:nvGrpSpPr>
        <p:grpSpPr>
          <a:xfrm>
            <a:off x="1069560" y="4757760"/>
            <a:ext cx="305640" cy="338040"/>
            <a:chOff x="1069560" y="4757760"/>
            <a:chExt cx="305640" cy="338040"/>
          </a:xfrm>
        </p:grpSpPr>
        <p:pic>
          <p:nvPicPr>
            <p:cNvPr id="1675" name="Picture 177" descr="bull"/>
            <p:cNvPicPr/>
            <p:nvPr/>
          </p:nvPicPr>
          <p:blipFill>
            <a:blip r:embed="rId10"/>
            <a:stretch/>
          </p:blipFill>
          <p:spPr>
            <a:xfrm>
              <a:off x="1073160" y="4815720"/>
              <a:ext cx="286560" cy="28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6" name="TextBox 146"/>
            <p:cNvSpPr/>
            <p:nvPr/>
          </p:nvSpPr>
          <p:spPr>
            <a:xfrm>
              <a:off x="1069560" y="4757760"/>
              <a:ext cx="30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7" name="그룹 97"/>
          <p:cNvGrpSpPr/>
          <p:nvPr/>
        </p:nvGrpSpPr>
        <p:grpSpPr>
          <a:xfrm>
            <a:off x="1073160" y="5172120"/>
            <a:ext cx="285840" cy="338040"/>
            <a:chOff x="1073160" y="5172120"/>
            <a:chExt cx="285840" cy="338040"/>
          </a:xfrm>
        </p:grpSpPr>
        <p:pic>
          <p:nvPicPr>
            <p:cNvPr id="1678" name="Picture 177" descr="bull"/>
            <p:cNvPicPr/>
            <p:nvPr/>
          </p:nvPicPr>
          <p:blipFill>
            <a:blip r:embed="rId11"/>
            <a:stretch/>
          </p:blipFill>
          <p:spPr>
            <a:xfrm>
              <a:off x="1073160" y="5230080"/>
              <a:ext cx="285840" cy="28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9" name="TextBox 146"/>
            <p:cNvSpPr/>
            <p:nvPr/>
          </p:nvSpPr>
          <p:spPr>
            <a:xfrm>
              <a:off x="1076400" y="5172120"/>
              <a:ext cx="278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0" name="직사각형 45"/>
          <p:cNvSpPr/>
          <p:nvPr/>
        </p:nvSpPr>
        <p:spPr>
          <a:xfrm>
            <a:off x="928800" y="6029280"/>
            <a:ext cx="764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Verdana"/>
                <a:ea typeface="휴먼모음T"/>
              </a:rPr>
              <a:t>                          </a:t>
            </a:r>
            <a:r>
              <a:rPr b="1" lang="ko-KR" sz="2000" spc="-1" strike="noStrike">
                <a:solidFill>
                  <a:srgbClr val="000000"/>
                </a:solidFill>
                <a:latin typeface="Verdana"/>
                <a:ea typeface="휴먼모음T"/>
              </a:rPr>
              <a:t>유의미한 언어학습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휴먼모음T"/>
              </a:rPr>
              <a:t>: </a:t>
            </a:r>
            <a:r>
              <a:rPr b="1" lang="ko-KR" sz="2000" spc="-1" strike="noStrike">
                <a:solidFill>
                  <a:srgbClr val="000000"/>
                </a:solidFill>
                <a:latin typeface="Verdana"/>
                <a:ea typeface="휴먼모음T"/>
              </a:rPr>
              <a:t>오스벨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휴먼모음T"/>
              </a:rPr>
              <a:t>(Ausubel)</a:t>
            </a:r>
            <a:r>
              <a:rPr b="1" lang="ko-KR" sz="2000" spc="-1" strike="noStrike">
                <a:solidFill>
                  <a:srgbClr val="000000"/>
                </a:solidFill>
                <a:latin typeface="Verdana"/>
                <a:ea typeface="휴먼모음T"/>
              </a:rPr>
              <a:t>의 연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500"/>
                                        <p:tgtEl>
                                          <p:spTgt spid="1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9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830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31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32" name="직사각형 50"/>
              <p:cNvSpPr/>
              <p:nvPr/>
            </p:nvSpPr>
            <p:spPr>
              <a:xfrm>
                <a:off x="1494000" y="1386000"/>
                <a:ext cx="4173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이론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information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processing theor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3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4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835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36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837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38" name=""/>
                <p:cNvSpPr/>
                <p:nvPr/>
              </p:nvSpPr>
              <p:spPr>
                <a:xfrm>
                  <a:off x="691920" y="141552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39" name="TextBox 88"/>
            <p:cNvSpPr/>
            <p:nvPr/>
          </p:nvSpPr>
          <p:spPr>
            <a:xfrm>
              <a:off x="657720" y="139104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0" name="그룹 63"/>
          <p:cNvGrpSpPr/>
          <p:nvPr/>
        </p:nvGrpSpPr>
        <p:grpSpPr>
          <a:xfrm>
            <a:off x="285840" y="1857240"/>
            <a:ext cx="8501040" cy="1571760"/>
            <a:chOff x="285840" y="1857240"/>
            <a:chExt cx="8501040" cy="1571760"/>
          </a:xfrm>
        </p:grpSpPr>
        <p:grpSp>
          <p:nvGrpSpPr>
            <p:cNvPr id="841" name="그룹 34"/>
            <p:cNvGrpSpPr/>
            <p:nvPr/>
          </p:nvGrpSpPr>
          <p:grpSpPr>
            <a:xfrm>
              <a:off x="285840" y="2060640"/>
              <a:ext cx="8501040" cy="1368360"/>
              <a:chOff x="285840" y="2060640"/>
              <a:chExt cx="8501040" cy="1368360"/>
            </a:xfrm>
          </p:grpSpPr>
          <p:grpSp>
            <p:nvGrpSpPr>
              <p:cNvPr id="842" name="그룹 91"/>
              <p:cNvGrpSpPr/>
              <p:nvPr/>
            </p:nvGrpSpPr>
            <p:grpSpPr>
              <a:xfrm>
                <a:off x="285840" y="2060640"/>
                <a:ext cx="8501040" cy="1368360"/>
                <a:chOff x="285840" y="2060640"/>
                <a:chExt cx="8501040" cy="1368360"/>
              </a:xfrm>
            </p:grpSpPr>
            <p:pic>
              <p:nvPicPr>
                <p:cNvPr id="843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060640"/>
                  <a:ext cx="8501040" cy="13683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44" name="직사각형 75"/>
                <p:cNvSpPr/>
                <p:nvPr/>
              </p:nvSpPr>
              <p:spPr>
                <a:xfrm>
                  <a:off x="1214280" y="2403360"/>
                  <a:ext cx="757260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정보처리이론은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간이 외부 정보에 주의를 기울이고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그 정보를 저장하고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필요할 때 인출하는 과정을 분석하는 접근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45" name="오른쪽 화살표 73"/>
              <p:cNvGrpSpPr/>
              <p:nvPr/>
            </p:nvGrpSpPr>
            <p:grpSpPr>
              <a:xfrm>
                <a:off x="883800" y="2523600"/>
                <a:ext cx="359640" cy="304920"/>
                <a:chOff x="883800" y="2523600"/>
                <a:chExt cx="359640" cy="304920"/>
              </a:xfrm>
            </p:grpSpPr>
            <p:pic>
              <p:nvPicPr>
                <p:cNvPr id="846" name="오른쪽 화살표 73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83800" y="2523600"/>
                  <a:ext cx="3596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47" name=""/>
                <p:cNvSpPr/>
                <p:nvPr/>
              </p:nvSpPr>
              <p:spPr>
                <a:xfrm>
                  <a:off x="928440" y="2609640"/>
                  <a:ext cx="176040" cy="75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48" name="그룹 44"/>
            <p:cNvGrpSpPr/>
            <p:nvPr/>
          </p:nvGrpSpPr>
          <p:grpSpPr>
            <a:xfrm>
              <a:off x="928440" y="1857240"/>
              <a:ext cx="7574040" cy="551160"/>
              <a:chOff x="928440" y="1857240"/>
              <a:chExt cx="7574040" cy="551160"/>
            </a:xfrm>
          </p:grpSpPr>
          <p:grpSp>
            <p:nvGrpSpPr>
              <p:cNvPr id="849" name="그룹 91"/>
              <p:cNvGrpSpPr/>
              <p:nvPr/>
            </p:nvGrpSpPr>
            <p:grpSpPr>
              <a:xfrm>
                <a:off x="928440" y="1857240"/>
                <a:ext cx="845640" cy="551160"/>
                <a:chOff x="928440" y="1857240"/>
                <a:chExt cx="845640" cy="551160"/>
              </a:xfrm>
            </p:grpSpPr>
            <p:grpSp>
              <p:nvGrpSpPr>
                <p:cNvPr id="850" name="그룹 34"/>
                <p:cNvGrpSpPr/>
                <p:nvPr/>
              </p:nvGrpSpPr>
              <p:grpSpPr>
                <a:xfrm>
                  <a:off x="928440" y="1961280"/>
                  <a:ext cx="348840" cy="343800"/>
                  <a:chOff x="928440" y="1961280"/>
                  <a:chExt cx="348840" cy="343800"/>
                </a:xfrm>
              </p:grpSpPr>
              <p:pic>
                <p:nvPicPr>
                  <p:cNvPr id="851" name="Picture 177" descr="bull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928440" y="1968480"/>
                    <a:ext cx="348840" cy="33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52" name="TextBox 36"/>
                  <p:cNvSpPr/>
                  <p:nvPr/>
                </p:nvSpPr>
                <p:spPr>
                  <a:xfrm>
                    <a:off x="957600" y="196128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53" name="직사각형 69"/>
                <p:cNvSpPr/>
                <p:nvPr/>
              </p:nvSpPr>
              <p:spPr>
                <a:xfrm>
                  <a:off x="1288440" y="1857240"/>
                  <a:ext cx="4856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미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54" name="직선 연결선 67"/>
              <p:cNvSpPr/>
              <p:nvPr/>
            </p:nvSpPr>
            <p:spPr>
              <a:xfrm>
                <a:off x="3214440" y="2128680"/>
                <a:ext cx="52880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55" name="그룹 100"/>
          <p:cNvGrpSpPr/>
          <p:nvPr/>
        </p:nvGrpSpPr>
        <p:grpSpPr>
          <a:xfrm>
            <a:off x="285840" y="3571920"/>
            <a:ext cx="8501040" cy="2928960"/>
            <a:chOff x="285840" y="3571920"/>
            <a:chExt cx="8501040" cy="2928960"/>
          </a:xfrm>
        </p:grpSpPr>
        <p:pic>
          <p:nvPicPr>
            <p:cNvPr id="856" name="Picture 5" descr="233"/>
            <p:cNvPicPr/>
            <p:nvPr/>
          </p:nvPicPr>
          <p:blipFill>
            <a:blip r:embed="rId6"/>
            <a:srcRect l="0" t="0" r="24313" b="0"/>
            <a:stretch/>
          </p:blipFill>
          <p:spPr>
            <a:xfrm>
              <a:off x="285840" y="3774960"/>
              <a:ext cx="8501040" cy="27259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57" name="그룹 91"/>
            <p:cNvGrpSpPr/>
            <p:nvPr/>
          </p:nvGrpSpPr>
          <p:grpSpPr>
            <a:xfrm>
              <a:off x="916920" y="3571920"/>
              <a:ext cx="1675080" cy="551160"/>
              <a:chOff x="916920" y="3571920"/>
              <a:chExt cx="1675080" cy="551160"/>
            </a:xfrm>
          </p:grpSpPr>
          <p:grpSp>
            <p:nvGrpSpPr>
              <p:cNvPr id="858" name="그룹 34"/>
              <p:cNvGrpSpPr/>
              <p:nvPr/>
            </p:nvGrpSpPr>
            <p:grpSpPr>
              <a:xfrm>
                <a:off x="916920" y="3663000"/>
                <a:ext cx="369360" cy="356400"/>
                <a:chOff x="916920" y="3663000"/>
                <a:chExt cx="369360" cy="356400"/>
              </a:xfrm>
            </p:grpSpPr>
            <p:pic>
              <p:nvPicPr>
                <p:cNvPr id="859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920160" y="3681360"/>
                  <a:ext cx="366120" cy="3380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60" name="TextBox 36"/>
                <p:cNvSpPr/>
                <p:nvPr/>
              </p:nvSpPr>
              <p:spPr>
                <a:xfrm>
                  <a:off x="916920" y="3663000"/>
                  <a:ext cx="3621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★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61" name="직사각형 58"/>
              <p:cNvSpPr/>
              <p:nvPr/>
            </p:nvSpPr>
            <p:spPr>
              <a:xfrm>
                <a:off x="1496880" y="3571920"/>
                <a:ext cx="10951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모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62" name="그룹 61"/>
          <p:cNvGrpSpPr/>
          <p:nvPr/>
        </p:nvGrpSpPr>
        <p:grpSpPr>
          <a:xfrm>
            <a:off x="1285920" y="3733920"/>
            <a:ext cx="6786360" cy="2624040"/>
            <a:chOff x="1285920" y="3733920"/>
            <a:chExt cx="6786360" cy="2624040"/>
          </a:xfrm>
        </p:grpSpPr>
        <p:grpSp>
          <p:nvGrpSpPr>
            <p:cNvPr id="863" name="타원 62"/>
            <p:cNvGrpSpPr/>
            <p:nvPr/>
          </p:nvGrpSpPr>
          <p:grpSpPr>
            <a:xfrm>
              <a:off x="1285920" y="4637880"/>
              <a:ext cx="691560" cy="683280"/>
              <a:chOff x="1285920" y="4637880"/>
              <a:chExt cx="691560" cy="683280"/>
            </a:xfrm>
          </p:grpSpPr>
          <p:pic>
            <p:nvPicPr>
              <p:cNvPr id="864" name="타원 62" descr=""/>
              <p:cNvPicPr/>
              <p:nvPr/>
            </p:nvPicPr>
            <p:blipFill>
              <a:blip r:embed="rId8"/>
              <a:stretch/>
            </p:blipFill>
            <p:spPr>
              <a:xfrm>
                <a:off x="1285920" y="4637880"/>
                <a:ext cx="691560" cy="683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5" name=""/>
              <p:cNvSpPr/>
              <p:nvPr/>
            </p:nvSpPr>
            <p:spPr>
              <a:xfrm>
                <a:off x="1432800" y="4762440"/>
                <a:ext cx="395280" cy="390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자극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6" name="직사각형 63"/>
            <p:cNvGrpSpPr/>
            <p:nvPr/>
          </p:nvGrpSpPr>
          <p:grpSpPr>
            <a:xfrm>
              <a:off x="2734920" y="4573080"/>
              <a:ext cx="1139040" cy="748080"/>
              <a:chOff x="2734920" y="4573080"/>
              <a:chExt cx="1139040" cy="748080"/>
            </a:xfrm>
          </p:grpSpPr>
          <p:pic>
            <p:nvPicPr>
              <p:cNvPr id="867" name="직사각형 63" descr=""/>
              <p:cNvPicPr/>
              <p:nvPr/>
            </p:nvPicPr>
            <p:blipFill>
              <a:blip r:embed="rId9"/>
              <a:stretch/>
            </p:blipFill>
            <p:spPr>
              <a:xfrm>
                <a:off x="2734920" y="4573080"/>
                <a:ext cx="1139040" cy="748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8" name=""/>
              <p:cNvSpPr/>
              <p:nvPr/>
            </p:nvSpPr>
            <p:spPr>
              <a:xfrm>
                <a:off x="2818440" y="4612680"/>
                <a:ext cx="978480" cy="62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감각기억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9" name="직사각형 64"/>
            <p:cNvGrpSpPr/>
            <p:nvPr/>
          </p:nvGrpSpPr>
          <p:grpSpPr>
            <a:xfrm>
              <a:off x="4822200" y="4567320"/>
              <a:ext cx="1156680" cy="748080"/>
              <a:chOff x="4822200" y="4567320"/>
              <a:chExt cx="1156680" cy="748080"/>
            </a:xfrm>
          </p:grpSpPr>
          <p:pic>
            <p:nvPicPr>
              <p:cNvPr id="870" name="직사각형 64" descr=""/>
              <p:cNvPicPr/>
              <p:nvPr/>
            </p:nvPicPr>
            <p:blipFill>
              <a:blip r:embed="rId10"/>
              <a:stretch/>
            </p:blipFill>
            <p:spPr>
              <a:xfrm>
                <a:off x="4822200" y="4567320"/>
                <a:ext cx="1156680" cy="748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1" name=""/>
              <p:cNvSpPr/>
              <p:nvPr/>
            </p:nvSpPr>
            <p:spPr>
              <a:xfrm>
                <a:off x="4915080" y="4612680"/>
                <a:ext cx="978480" cy="62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단기기억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작업기억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2" name="직사각형 65"/>
            <p:cNvGrpSpPr/>
            <p:nvPr/>
          </p:nvGrpSpPr>
          <p:grpSpPr>
            <a:xfrm>
              <a:off x="6927480" y="4573080"/>
              <a:ext cx="1144800" cy="748080"/>
              <a:chOff x="6927480" y="4573080"/>
              <a:chExt cx="1144800" cy="748080"/>
            </a:xfrm>
          </p:grpSpPr>
          <p:pic>
            <p:nvPicPr>
              <p:cNvPr id="873" name="직사각형 65" descr=""/>
              <p:cNvPicPr/>
              <p:nvPr/>
            </p:nvPicPr>
            <p:blipFill>
              <a:blip r:embed="rId11"/>
              <a:stretch/>
            </p:blipFill>
            <p:spPr>
              <a:xfrm>
                <a:off x="6927480" y="4573080"/>
                <a:ext cx="1144800" cy="748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4" name=""/>
              <p:cNvSpPr/>
              <p:nvPr/>
            </p:nvSpPr>
            <p:spPr>
              <a:xfrm>
                <a:off x="7011720" y="4612680"/>
                <a:ext cx="978480" cy="62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장기기억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5" name="타원 66"/>
            <p:cNvGrpSpPr/>
            <p:nvPr/>
          </p:nvGrpSpPr>
          <p:grpSpPr>
            <a:xfrm>
              <a:off x="5060880" y="5674680"/>
              <a:ext cx="691560" cy="683280"/>
              <a:chOff x="5060880" y="5674680"/>
              <a:chExt cx="691560" cy="683280"/>
            </a:xfrm>
          </p:grpSpPr>
          <p:pic>
            <p:nvPicPr>
              <p:cNvPr id="876" name="타원 66" descr=""/>
              <p:cNvPicPr/>
              <p:nvPr/>
            </p:nvPicPr>
            <p:blipFill>
              <a:blip r:embed="rId12"/>
              <a:stretch/>
            </p:blipFill>
            <p:spPr>
              <a:xfrm>
                <a:off x="5060880" y="5674680"/>
                <a:ext cx="691560" cy="683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7" name=""/>
              <p:cNvSpPr/>
              <p:nvPr/>
            </p:nvSpPr>
            <p:spPr>
              <a:xfrm>
                <a:off x="5206680" y="5797800"/>
                <a:ext cx="395280" cy="390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반응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8" name="모서리가 둥근 직사각형 68"/>
            <p:cNvGrpSpPr/>
            <p:nvPr/>
          </p:nvGrpSpPr>
          <p:grpSpPr>
            <a:xfrm>
              <a:off x="7148160" y="5468760"/>
              <a:ext cx="757080" cy="477000"/>
              <a:chOff x="7148160" y="5468760"/>
              <a:chExt cx="757080" cy="477000"/>
            </a:xfrm>
          </p:grpSpPr>
          <p:pic>
            <p:nvPicPr>
              <p:cNvPr id="879" name="모서리가 둥근 직사각형 68" descr=""/>
              <p:cNvPicPr/>
              <p:nvPr/>
            </p:nvPicPr>
            <p:blipFill>
              <a:blip r:embed="rId13"/>
              <a:stretch/>
            </p:blipFill>
            <p:spPr>
              <a:xfrm>
                <a:off x="7148160" y="5468760"/>
                <a:ext cx="757080" cy="47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0" name=""/>
              <p:cNvSpPr/>
              <p:nvPr/>
            </p:nvSpPr>
            <p:spPr>
              <a:xfrm>
                <a:off x="7229160" y="5527080"/>
                <a:ext cx="594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1" name="모서리가 둥근 직사각형 71"/>
            <p:cNvGrpSpPr/>
            <p:nvPr/>
          </p:nvGrpSpPr>
          <p:grpSpPr>
            <a:xfrm>
              <a:off x="4047120" y="5468760"/>
              <a:ext cx="757080" cy="477000"/>
              <a:chOff x="4047120" y="5468760"/>
              <a:chExt cx="757080" cy="477000"/>
            </a:xfrm>
          </p:grpSpPr>
          <p:pic>
            <p:nvPicPr>
              <p:cNvPr id="882" name="모서리가 둥근 직사각형 71" descr=""/>
              <p:cNvPicPr/>
              <p:nvPr/>
            </p:nvPicPr>
            <p:blipFill>
              <a:blip r:embed="rId14"/>
              <a:stretch/>
            </p:blipFill>
            <p:spPr>
              <a:xfrm>
                <a:off x="4047120" y="5468760"/>
                <a:ext cx="757080" cy="47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3" name=""/>
              <p:cNvSpPr/>
              <p:nvPr/>
            </p:nvSpPr>
            <p:spPr>
              <a:xfrm>
                <a:off x="4129200" y="5527080"/>
                <a:ext cx="594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4" name="모서리가 둥근 직사각형 72"/>
            <p:cNvGrpSpPr/>
            <p:nvPr/>
          </p:nvGrpSpPr>
          <p:grpSpPr>
            <a:xfrm>
              <a:off x="2937600" y="5468760"/>
              <a:ext cx="757080" cy="477000"/>
              <a:chOff x="2937600" y="5468760"/>
              <a:chExt cx="757080" cy="477000"/>
            </a:xfrm>
          </p:grpSpPr>
          <p:pic>
            <p:nvPicPr>
              <p:cNvPr id="885" name="모서리가 둥근 직사각형 72" descr=""/>
              <p:cNvPicPr/>
              <p:nvPr/>
            </p:nvPicPr>
            <p:blipFill>
              <a:blip r:embed="rId15"/>
              <a:stretch/>
            </p:blipFill>
            <p:spPr>
              <a:xfrm>
                <a:off x="2937600" y="5468760"/>
                <a:ext cx="757080" cy="47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6" name=""/>
              <p:cNvSpPr/>
              <p:nvPr/>
            </p:nvSpPr>
            <p:spPr>
              <a:xfrm>
                <a:off x="3018600" y="5527080"/>
                <a:ext cx="594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887" name="직선 화살표 연결선 118"/>
            <p:cNvCxnSpPr/>
            <p:nvPr/>
          </p:nvCxnSpPr>
          <p:spPr>
            <a:xfrm>
              <a:off x="1979640" y="4957920"/>
              <a:ext cx="76932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88" name="직선 화살표 연결선 120"/>
            <p:cNvCxnSpPr/>
            <p:nvPr/>
          </p:nvCxnSpPr>
          <p:spPr>
            <a:xfrm>
              <a:off x="3936600" y="4957920"/>
              <a:ext cx="76932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89" name="직선 화살표 연결선 121"/>
            <p:cNvCxnSpPr/>
            <p:nvPr/>
          </p:nvCxnSpPr>
          <p:spPr>
            <a:xfrm>
              <a:off x="6103080" y="4651200"/>
              <a:ext cx="76932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0" name="직선 화살표 연결선 122"/>
            <p:cNvCxnSpPr/>
            <p:nvPr/>
          </p:nvCxnSpPr>
          <p:spPr>
            <a:xfrm>
              <a:off x="6103080" y="4927320"/>
              <a:ext cx="76932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1" name="직선 화살표 연결선 123"/>
            <p:cNvCxnSpPr/>
            <p:nvPr/>
          </p:nvCxnSpPr>
          <p:spPr>
            <a:xfrm flipH="1">
              <a:off x="6102720" y="5203440"/>
              <a:ext cx="76932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892" name="TextBox 124"/>
            <p:cNvSpPr/>
            <p:nvPr/>
          </p:nvSpPr>
          <p:spPr>
            <a:xfrm>
              <a:off x="4098600" y="495792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TextBox 125"/>
            <p:cNvSpPr/>
            <p:nvPr/>
          </p:nvSpPr>
          <p:spPr>
            <a:xfrm>
              <a:off x="6167160" y="4651200"/>
              <a:ext cx="546480" cy="89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시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부호화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출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94" name="직선 화살표 연결선 126"/>
            <p:cNvCxnSpPr/>
            <p:nvPr/>
          </p:nvCxnSpPr>
          <p:spPr>
            <a:xfrm flipH="1">
              <a:off x="3307320" y="5233680"/>
              <a:ext cx="2160" cy="209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5" name="직선 화살표 연결선 129"/>
            <p:cNvCxnSpPr/>
            <p:nvPr/>
          </p:nvCxnSpPr>
          <p:spPr>
            <a:xfrm flipH="1">
              <a:off x="7500600" y="5233680"/>
              <a:ext cx="2160" cy="209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6" name="직선 화살표 연결선 130"/>
            <p:cNvCxnSpPr/>
            <p:nvPr/>
          </p:nvCxnSpPr>
          <p:spPr>
            <a:xfrm flipH="1">
              <a:off x="5403960" y="5301360"/>
              <a:ext cx="2160" cy="347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7" name="꺾인 연결선 133"/>
            <p:cNvCxnSpPr/>
            <p:nvPr/>
          </p:nvCxnSpPr>
          <p:spPr>
            <a:xfrm flipH="1">
              <a:off x="4775040" y="5303160"/>
              <a:ext cx="489600" cy="345240"/>
            </a:xfrm>
            <a:prstGeom prst="bentConnector3">
              <a:avLst>
                <a:gd name="adj1" fmla="val -1471"/>
              </a:avLst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</p:cxnSp>
        <p:cxnSp>
          <p:nvCxnSpPr>
            <p:cNvPr id="898" name="꺾인 연결선 139"/>
            <p:cNvCxnSpPr/>
            <p:nvPr/>
          </p:nvCxnSpPr>
          <p:spPr>
            <a:xfrm flipV="1" rot="16200000">
              <a:off x="5403960" y="2472480"/>
              <a:ext cx="2160" cy="4195440"/>
            </a:xfrm>
            <a:prstGeom prst="bentConnector3">
              <a:avLst>
                <a:gd name="adj1" fmla="val 35080000"/>
              </a:avLst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</p:cxnSp>
        <p:sp>
          <p:nvSpPr>
            <p:cNvPr id="899" name="TextBox 142"/>
            <p:cNvSpPr/>
            <p:nvPr/>
          </p:nvSpPr>
          <p:spPr>
            <a:xfrm>
              <a:off x="5140080" y="373392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메타인지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00" name="직선 화살표 연결선 143"/>
            <p:cNvCxnSpPr/>
            <p:nvPr/>
          </p:nvCxnSpPr>
          <p:spPr>
            <a:xfrm flipH="1">
              <a:off x="6452280" y="4035960"/>
              <a:ext cx="2160" cy="552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pic>
          <p:nvPicPr>
            <p:cNvPr id="901" name="그림 166" descr="그림1.png"/>
            <p:cNvPicPr/>
            <p:nvPr/>
          </p:nvPicPr>
          <p:blipFill>
            <a:blip r:embed="rId16"/>
            <a:stretch/>
          </p:blipFill>
          <p:spPr>
            <a:xfrm rot="18900000">
              <a:off x="5085720" y="4375080"/>
              <a:ext cx="464040" cy="36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2" name="TextBox 167"/>
            <p:cNvSpPr/>
            <p:nvPr/>
          </p:nvSpPr>
          <p:spPr>
            <a:xfrm>
              <a:off x="5167080" y="414792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시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3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90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90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06" name="직사각형 13"/>
              <p:cNvSpPr/>
              <p:nvPr/>
            </p:nvSpPr>
            <p:spPr>
              <a:xfrm>
                <a:off x="1351440" y="1385640"/>
                <a:ext cx="109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7" name="직선 연결선 141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0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1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1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1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13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4" name="그룹 63"/>
          <p:cNvGrpSpPr/>
          <p:nvPr/>
        </p:nvGrpSpPr>
        <p:grpSpPr>
          <a:xfrm>
            <a:off x="285840" y="2046240"/>
            <a:ext cx="8572320" cy="3454560"/>
            <a:chOff x="285840" y="2046240"/>
            <a:chExt cx="8572320" cy="3454560"/>
          </a:xfrm>
        </p:grpSpPr>
        <p:grpSp>
          <p:nvGrpSpPr>
            <p:cNvPr id="915" name="그룹 91"/>
            <p:cNvGrpSpPr/>
            <p:nvPr/>
          </p:nvGrpSpPr>
          <p:grpSpPr>
            <a:xfrm>
              <a:off x="285840" y="2249280"/>
              <a:ext cx="8572320" cy="3251520"/>
              <a:chOff x="285840" y="2249280"/>
              <a:chExt cx="8572320" cy="3251520"/>
            </a:xfrm>
          </p:grpSpPr>
          <p:pic>
            <p:nvPicPr>
              <p:cNvPr id="916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249280"/>
                <a:ext cx="8501040" cy="32515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917" name="직사각형 154"/>
              <p:cNvSpPr/>
              <p:nvPr/>
            </p:nvSpPr>
            <p:spPr>
              <a:xfrm>
                <a:off x="1143000" y="2514240"/>
                <a:ext cx="7715160" cy="242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의미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극히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짧은 순간 동안 정보를 원래 형태대로 정확하게 복사하여 보존하는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  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억형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징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의 지속기간이 매우 짧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각적 정보는 약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1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초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청각적 정보는 약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4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초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감각기억에 파지된 정보에 주의를 기울이면 단기기억으로 전이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8" name="그룹 44"/>
            <p:cNvGrpSpPr/>
            <p:nvPr/>
          </p:nvGrpSpPr>
          <p:grpSpPr>
            <a:xfrm>
              <a:off x="928440" y="2046240"/>
              <a:ext cx="7574040" cy="551160"/>
              <a:chOff x="928440" y="2046240"/>
              <a:chExt cx="7574040" cy="551160"/>
            </a:xfrm>
          </p:grpSpPr>
          <p:grpSp>
            <p:nvGrpSpPr>
              <p:cNvPr id="919" name="그룹 91"/>
              <p:cNvGrpSpPr/>
              <p:nvPr/>
            </p:nvGrpSpPr>
            <p:grpSpPr>
              <a:xfrm>
                <a:off x="928440" y="2046240"/>
                <a:ext cx="3023280" cy="551160"/>
                <a:chOff x="928440" y="2046240"/>
                <a:chExt cx="3023280" cy="551160"/>
              </a:xfrm>
            </p:grpSpPr>
            <p:grpSp>
              <p:nvGrpSpPr>
                <p:cNvPr id="920" name="그룹 34"/>
                <p:cNvGrpSpPr/>
                <p:nvPr/>
              </p:nvGrpSpPr>
              <p:grpSpPr>
                <a:xfrm>
                  <a:off x="928440" y="2150280"/>
                  <a:ext cx="349200" cy="343440"/>
                  <a:chOff x="928440" y="2150280"/>
                  <a:chExt cx="349200" cy="343440"/>
                </a:xfrm>
              </p:grpSpPr>
              <p:pic>
                <p:nvPicPr>
                  <p:cNvPr id="921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157480"/>
                    <a:ext cx="349200" cy="33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22" name="TextBox 36"/>
                  <p:cNvSpPr/>
                  <p:nvPr/>
                </p:nvSpPr>
                <p:spPr>
                  <a:xfrm>
                    <a:off x="957960" y="215028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23" name="직사각형 148"/>
                <p:cNvSpPr/>
                <p:nvPr/>
              </p:nvSpPr>
              <p:spPr>
                <a:xfrm>
                  <a:off x="1438200" y="2046240"/>
                  <a:ext cx="251352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감각기억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(sensory</a:t>
                  </a: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 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register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24" name="직선 연결선 146"/>
              <p:cNvSpPr/>
              <p:nvPr/>
            </p:nvSpPr>
            <p:spPr>
              <a:xfrm flipV="1">
                <a:off x="4643280" y="2318760"/>
                <a:ext cx="3859200" cy="1260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25" name="타원 156"/>
          <p:cNvGrpSpPr/>
          <p:nvPr/>
        </p:nvGrpSpPr>
        <p:grpSpPr>
          <a:xfrm>
            <a:off x="933480" y="2670120"/>
            <a:ext cx="225360" cy="231840"/>
            <a:chOff x="933480" y="2670120"/>
            <a:chExt cx="225360" cy="231840"/>
          </a:xfrm>
        </p:grpSpPr>
        <p:pic>
          <p:nvPicPr>
            <p:cNvPr id="926" name="타원 156" descr=""/>
            <p:cNvPicPr/>
            <p:nvPr/>
          </p:nvPicPr>
          <p:blipFill>
            <a:blip r:embed="rId5"/>
            <a:stretch/>
          </p:blipFill>
          <p:spPr>
            <a:xfrm>
              <a:off x="933480" y="267012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7" name=""/>
            <p:cNvSpPr/>
            <p:nvPr/>
          </p:nvSpPr>
          <p:spPr>
            <a:xfrm rot="10800000">
              <a:off x="1014480" y="272880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8" name="타원 157"/>
          <p:cNvGrpSpPr/>
          <p:nvPr/>
        </p:nvGrpSpPr>
        <p:grpSpPr>
          <a:xfrm>
            <a:off x="933480" y="3786120"/>
            <a:ext cx="225360" cy="236520"/>
            <a:chOff x="933480" y="3786120"/>
            <a:chExt cx="225360" cy="236520"/>
          </a:xfrm>
        </p:grpSpPr>
        <p:pic>
          <p:nvPicPr>
            <p:cNvPr id="929" name="타원 157" descr=""/>
            <p:cNvPicPr/>
            <p:nvPr/>
          </p:nvPicPr>
          <p:blipFill>
            <a:blip r:embed="rId6"/>
            <a:stretch/>
          </p:blipFill>
          <p:spPr>
            <a:xfrm>
              <a:off x="933480" y="3786120"/>
              <a:ext cx="225360" cy="23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0" name=""/>
            <p:cNvSpPr/>
            <p:nvPr/>
          </p:nvSpPr>
          <p:spPr>
            <a:xfrm rot="10800000">
              <a:off x="1014480" y="384480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9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1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932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93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34" name="직사각형 13"/>
              <p:cNvSpPr/>
              <p:nvPr/>
            </p:nvSpPr>
            <p:spPr>
              <a:xfrm>
                <a:off x="1351440" y="1385640"/>
                <a:ext cx="109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5" name="직선 연결선 141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3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3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3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4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41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2" name="그룹 82"/>
          <p:cNvGrpSpPr/>
          <p:nvPr/>
        </p:nvGrpSpPr>
        <p:grpSpPr>
          <a:xfrm>
            <a:off x="285840" y="2071800"/>
            <a:ext cx="8858160" cy="4286160"/>
            <a:chOff x="285840" y="2071800"/>
            <a:chExt cx="8858160" cy="4286160"/>
          </a:xfrm>
        </p:grpSpPr>
        <p:grpSp>
          <p:nvGrpSpPr>
            <p:cNvPr id="943" name="그룹 173"/>
            <p:cNvGrpSpPr/>
            <p:nvPr/>
          </p:nvGrpSpPr>
          <p:grpSpPr>
            <a:xfrm>
              <a:off x="285840" y="2071800"/>
              <a:ext cx="8572680" cy="4286160"/>
              <a:chOff x="285840" y="2071800"/>
              <a:chExt cx="8572680" cy="4286160"/>
            </a:xfrm>
          </p:grpSpPr>
          <p:grpSp>
            <p:nvGrpSpPr>
              <p:cNvPr id="944" name="그룹 63"/>
              <p:cNvGrpSpPr/>
              <p:nvPr/>
            </p:nvGrpSpPr>
            <p:grpSpPr>
              <a:xfrm>
                <a:off x="285840" y="2071800"/>
                <a:ext cx="8572680" cy="4286160"/>
                <a:chOff x="285840" y="2071800"/>
                <a:chExt cx="8572680" cy="4286160"/>
              </a:xfrm>
            </p:grpSpPr>
            <p:grpSp>
              <p:nvGrpSpPr>
                <p:cNvPr id="945" name="그룹 91"/>
                <p:cNvGrpSpPr/>
                <p:nvPr/>
              </p:nvGrpSpPr>
              <p:grpSpPr>
                <a:xfrm>
                  <a:off x="285840" y="2274840"/>
                  <a:ext cx="8572680" cy="4083120"/>
                  <a:chOff x="285840" y="2274840"/>
                  <a:chExt cx="8572680" cy="4083120"/>
                </a:xfrm>
              </p:grpSpPr>
              <p:pic>
                <p:nvPicPr>
                  <p:cNvPr id="946" name="Picture 5" descr="233"/>
                  <p:cNvPicPr/>
                  <p:nvPr/>
                </p:nvPicPr>
                <p:blipFill>
                  <a:blip r:embed="rId3"/>
                  <a:srcRect l="0" t="0" r="24313" b="0"/>
                  <a:stretch/>
                </p:blipFill>
                <p:spPr>
                  <a:xfrm>
                    <a:off x="285840" y="2274840"/>
                    <a:ext cx="8501400" cy="40831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71785" dir="2700000" blurRad="0" rotWithShape="0">
                      <a:srgbClr val="808080">
                        <a:alpha val="50000"/>
                      </a:srgbClr>
                    </a:outerShdw>
                  </a:effectLst>
                </p:spPr>
              </p:pic>
              <p:sp>
                <p:nvSpPr>
                  <p:cNvPr id="947" name="직사각형 69"/>
                  <p:cNvSpPr/>
                  <p:nvPr/>
                </p:nvSpPr>
                <p:spPr>
                  <a:xfrm>
                    <a:off x="1143000" y="2571480"/>
                    <a:ext cx="7715520" cy="2151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의미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: 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제한된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 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정보를 짧은 시간 동안 파지하는 임시저장고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2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특징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buClr>
                        <a:srgbClr val="000000"/>
                      </a:buClr>
                      <a:buFont typeface="Wingdings" charset="2"/>
                      <a:buChar char="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 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단기기억에 저장된 정보는 인식할 수 있다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.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50000"/>
                      </a:lnSpc>
                      <a:buClr>
                        <a:srgbClr val="000000"/>
                      </a:buClr>
                      <a:buFont typeface="Wingdings" charset="2"/>
                      <a:buChar char="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 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단기기억은 감각기억과 장기기억에서 전이된 정보로 구성된다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.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50000"/>
                      </a:lnSpc>
                      <a:buClr>
                        <a:srgbClr val="000000"/>
                      </a:buClr>
                      <a:buFont typeface="Wingdings" charset="2"/>
                      <a:buChar char="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 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단기기억의 기억범위는 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7±2 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항목이다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(30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초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).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48" name="그룹 44"/>
                <p:cNvGrpSpPr/>
                <p:nvPr/>
              </p:nvGrpSpPr>
              <p:grpSpPr>
                <a:xfrm>
                  <a:off x="928440" y="2071800"/>
                  <a:ext cx="7574400" cy="551160"/>
                  <a:chOff x="928440" y="2071800"/>
                  <a:chExt cx="7574400" cy="551160"/>
                </a:xfrm>
              </p:grpSpPr>
              <p:grpSp>
                <p:nvGrpSpPr>
                  <p:cNvPr id="949" name="그룹 91"/>
                  <p:cNvGrpSpPr/>
                  <p:nvPr/>
                </p:nvGrpSpPr>
                <p:grpSpPr>
                  <a:xfrm>
                    <a:off x="928440" y="2071800"/>
                    <a:ext cx="4362840" cy="551160"/>
                    <a:chOff x="928440" y="2071800"/>
                    <a:chExt cx="4362840" cy="551160"/>
                  </a:xfrm>
                </p:grpSpPr>
                <p:grpSp>
                  <p:nvGrpSpPr>
                    <p:cNvPr id="950" name="그룹 34"/>
                    <p:cNvGrpSpPr/>
                    <p:nvPr/>
                  </p:nvGrpSpPr>
                  <p:grpSpPr>
                    <a:xfrm>
                      <a:off x="928440" y="2175840"/>
                      <a:ext cx="349200" cy="343800"/>
                      <a:chOff x="928440" y="2175840"/>
                      <a:chExt cx="349200" cy="343800"/>
                    </a:xfrm>
                  </p:grpSpPr>
                  <p:pic>
                    <p:nvPicPr>
                      <p:cNvPr id="951" name="Picture 177" descr="bull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928440" y="2182320"/>
                        <a:ext cx="349200" cy="3373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  <p:sp>
                    <p:nvSpPr>
                      <p:cNvPr id="952" name="TextBox 36"/>
                      <p:cNvSpPr/>
                      <p:nvPr/>
                    </p:nvSpPr>
                    <p:spPr>
                      <a:xfrm>
                        <a:off x="957960" y="2175840"/>
                        <a:ext cx="296640" cy="3373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600" spc="-1" strike="noStrike">
                            <a:solidFill>
                              <a:srgbClr val="000000"/>
                            </a:solidFill>
                            <a:latin typeface="HY헤드라인M"/>
                            <a:ea typeface="HY헤드라인M"/>
                          </a:rPr>
                          <a:t>2</a:t>
                        </a:r>
                        <a:endParaRPr b="0" lang="en-US" sz="16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953" name="직사각형 65"/>
                    <p:cNvSpPr/>
                    <p:nvPr/>
                  </p:nvSpPr>
                  <p:spPr>
                    <a:xfrm>
                      <a:off x="1610640" y="2071800"/>
                      <a:ext cx="3680640" cy="5511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기기억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/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작업기억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short-term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memory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54" name="직선 연결선 63"/>
                  <p:cNvSpPr/>
                  <p:nvPr/>
                </p:nvSpPr>
                <p:spPr>
                  <a:xfrm flipV="1">
                    <a:off x="6286680" y="2344320"/>
                    <a:ext cx="2216160" cy="12600"/>
                  </a:xfrm>
                  <a:prstGeom prst="line">
                    <a:avLst/>
                  </a:prstGeom>
                  <a:ln w="9360">
                    <a:solidFill>
                      <a:srgbClr val="7f7f7f"/>
                    </a:solidFill>
                    <a:prstDash val="dash"/>
                    <a:miter/>
                    <a:tailEnd len="med" type="diamond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955" name="타원 54"/>
              <p:cNvGrpSpPr/>
              <p:nvPr/>
            </p:nvGrpSpPr>
            <p:grpSpPr>
              <a:xfrm>
                <a:off x="932760" y="2730960"/>
                <a:ext cx="225360" cy="231480"/>
                <a:chOff x="932760" y="2730960"/>
                <a:chExt cx="225360" cy="231480"/>
              </a:xfrm>
            </p:grpSpPr>
            <p:pic>
              <p:nvPicPr>
                <p:cNvPr id="956" name="타원 54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932760" y="273096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57" name=""/>
                <p:cNvSpPr/>
                <p:nvPr/>
              </p:nvSpPr>
              <p:spPr>
                <a:xfrm rot="10800000">
                  <a:off x="1014480" y="278640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58" name="타원 57"/>
              <p:cNvGrpSpPr/>
              <p:nvPr/>
            </p:nvGrpSpPr>
            <p:grpSpPr>
              <a:xfrm>
                <a:off x="932760" y="3285720"/>
                <a:ext cx="225360" cy="231480"/>
                <a:chOff x="932760" y="3285720"/>
                <a:chExt cx="225360" cy="231480"/>
              </a:xfrm>
            </p:grpSpPr>
            <p:pic>
              <p:nvPicPr>
                <p:cNvPr id="959" name="타원 57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932760" y="328572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60" name=""/>
                <p:cNvSpPr/>
                <p:nvPr/>
              </p:nvSpPr>
              <p:spPr>
                <a:xfrm rot="10800000">
                  <a:off x="1014480" y="334512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61" name="타원 81"/>
              <p:cNvGrpSpPr/>
              <p:nvPr/>
            </p:nvGrpSpPr>
            <p:grpSpPr>
              <a:xfrm>
                <a:off x="932760" y="5005080"/>
                <a:ext cx="225360" cy="231480"/>
                <a:chOff x="932760" y="5005080"/>
                <a:chExt cx="225360" cy="231480"/>
              </a:xfrm>
            </p:grpSpPr>
            <p:pic>
              <p:nvPicPr>
                <p:cNvPr id="962" name="타원 81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932760" y="500508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63" name=""/>
                <p:cNvSpPr/>
                <p:nvPr/>
              </p:nvSpPr>
              <p:spPr>
                <a:xfrm rot="10800000">
                  <a:off x="1014480" y="506016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64" name="직사각형 80"/>
            <p:cNvSpPr/>
            <p:nvPr/>
          </p:nvSpPr>
          <p:spPr>
            <a:xfrm>
              <a:off x="1143000" y="4805640"/>
              <a:ext cx="8001000" cy="13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단기기억의 한계를 극복하는 방안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군단위화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청킹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보를 큰 단위로 결합하는 과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예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 FBINGOFIFAKOTRANYAPA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동성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보를 무의식 수준에서 처리할 수 있는 상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예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기본연산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운전기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5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966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96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68" name="직사각형 13"/>
              <p:cNvSpPr/>
              <p:nvPr/>
            </p:nvSpPr>
            <p:spPr>
              <a:xfrm>
                <a:off x="1351440" y="1385640"/>
                <a:ext cx="109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직선 연결선 141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7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7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7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7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75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6" name="그룹 173"/>
          <p:cNvGrpSpPr/>
          <p:nvPr/>
        </p:nvGrpSpPr>
        <p:grpSpPr>
          <a:xfrm>
            <a:off x="285840" y="2071800"/>
            <a:ext cx="8572320" cy="2357280"/>
            <a:chOff x="285840" y="2071800"/>
            <a:chExt cx="8572320" cy="2357280"/>
          </a:xfrm>
        </p:grpSpPr>
        <p:grpSp>
          <p:nvGrpSpPr>
            <p:cNvPr id="977" name="그룹 63"/>
            <p:cNvGrpSpPr/>
            <p:nvPr/>
          </p:nvGrpSpPr>
          <p:grpSpPr>
            <a:xfrm>
              <a:off x="285840" y="2071800"/>
              <a:ext cx="8572320" cy="2357280"/>
              <a:chOff x="285840" y="2071800"/>
              <a:chExt cx="8572320" cy="2357280"/>
            </a:xfrm>
          </p:grpSpPr>
          <p:grpSp>
            <p:nvGrpSpPr>
              <p:cNvPr id="978" name="그룹 91"/>
              <p:cNvGrpSpPr/>
              <p:nvPr/>
            </p:nvGrpSpPr>
            <p:grpSpPr>
              <a:xfrm>
                <a:off x="285840" y="2274840"/>
                <a:ext cx="8572320" cy="2154240"/>
                <a:chOff x="285840" y="2274840"/>
                <a:chExt cx="8572320" cy="2154240"/>
              </a:xfrm>
            </p:grpSpPr>
            <p:pic>
              <p:nvPicPr>
                <p:cNvPr id="979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74840"/>
                  <a:ext cx="8501040" cy="21542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980" name="직사각형 49"/>
                <p:cNvSpPr/>
                <p:nvPr/>
              </p:nvSpPr>
              <p:spPr>
                <a:xfrm>
                  <a:off x="1143000" y="2662200"/>
                  <a:ext cx="7715160" cy="119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영구적인 기억저장고로 용량은 무제한적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징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장기기억은 지식과 도식으로 개념화 되고 있다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식 기반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81" name="그룹 44"/>
              <p:cNvGrpSpPr/>
              <p:nvPr/>
            </p:nvGrpSpPr>
            <p:grpSpPr>
              <a:xfrm>
                <a:off x="928440" y="2071800"/>
                <a:ext cx="7574040" cy="551160"/>
                <a:chOff x="928440" y="2071800"/>
                <a:chExt cx="7574040" cy="551160"/>
              </a:xfrm>
            </p:grpSpPr>
            <p:grpSp>
              <p:nvGrpSpPr>
                <p:cNvPr id="982" name="그룹 91"/>
                <p:cNvGrpSpPr/>
                <p:nvPr/>
              </p:nvGrpSpPr>
              <p:grpSpPr>
                <a:xfrm>
                  <a:off x="928440" y="2071800"/>
                  <a:ext cx="3311640" cy="551160"/>
                  <a:chOff x="928440" y="2071800"/>
                  <a:chExt cx="3311640" cy="551160"/>
                </a:xfrm>
              </p:grpSpPr>
              <p:grpSp>
                <p:nvGrpSpPr>
                  <p:cNvPr id="983" name="그룹 34"/>
                  <p:cNvGrpSpPr/>
                  <p:nvPr/>
                </p:nvGrpSpPr>
                <p:grpSpPr>
                  <a:xfrm>
                    <a:off x="928440" y="2175840"/>
                    <a:ext cx="349200" cy="343800"/>
                    <a:chOff x="928440" y="2175840"/>
                    <a:chExt cx="349200" cy="343800"/>
                  </a:xfrm>
                </p:grpSpPr>
                <p:pic>
                  <p:nvPicPr>
                    <p:cNvPr id="984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182320"/>
                      <a:ext cx="349200" cy="337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985" name="TextBox 36"/>
                    <p:cNvSpPr/>
                    <p:nvPr/>
                  </p:nvSpPr>
                  <p:spPr>
                    <a:xfrm>
                      <a:off x="957960" y="217584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86" name="직사각형 45"/>
                  <p:cNvSpPr/>
                  <p:nvPr/>
                </p:nvSpPr>
                <p:spPr>
                  <a:xfrm>
                    <a:off x="1462680" y="2071800"/>
                    <a:ext cx="27774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장기기억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long-term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 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memory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87" name="직선 연결선 43"/>
                <p:cNvSpPr/>
                <p:nvPr/>
              </p:nvSpPr>
              <p:spPr>
                <a:xfrm flipV="1">
                  <a:off x="6286320" y="234432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88" name="타원 39"/>
            <p:cNvGrpSpPr/>
            <p:nvPr/>
          </p:nvGrpSpPr>
          <p:grpSpPr>
            <a:xfrm>
              <a:off x="932760" y="2816280"/>
              <a:ext cx="225360" cy="231480"/>
              <a:chOff x="932760" y="2816280"/>
              <a:chExt cx="225360" cy="231480"/>
            </a:xfrm>
          </p:grpSpPr>
          <p:pic>
            <p:nvPicPr>
              <p:cNvPr id="989" name="타원 39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28162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0" name=""/>
              <p:cNvSpPr/>
              <p:nvPr/>
            </p:nvSpPr>
            <p:spPr>
              <a:xfrm rot="10800000">
                <a:off x="1014480" y="2871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1" name="타원 50"/>
            <p:cNvGrpSpPr/>
            <p:nvPr/>
          </p:nvGrpSpPr>
          <p:grpSpPr>
            <a:xfrm>
              <a:off x="932760" y="3529800"/>
              <a:ext cx="225360" cy="231480"/>
              <a:chOff x="932760" y="3529800"/>
              <a:chExt cx="225360" cy="231480"/>
            </a:xfrm>
          </p:grpSpPr>
          <p:pic>
            <p:nvPicPr>
              <p:cNvPr id="992" name="타원 50" descr=""/>
              <p:cNvPicPr/>
              <p:nvPr/>
            </p:nvPicPr>
            <p:blipFill>
              <a:blip r:embed="rId6"/>
              <a:stretch/>
            </p:blipFill>
            <p:spPr>
              <a:xfrm>
                <a:off x="932760" y="3529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 rot="10800000">
                <a:off x="1014480" y="35863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4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995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99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97" name="직사각형 13"/>
              <p:cNvSpPr/>
              <p:nvPr/>
            </p:nvSpPr>
            <p:spPr>
              <a:xfrm>
                <a:off x="1351440" y="1385640"/>
                <a:ext cx="109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8" name="직선 연결선 141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0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0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0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0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04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5" name="그룹 63"/>
          <p:cNvGrpSpPr/>
          <p:nvPr/>
        </p:nvGrpSpPr>
        <p:grpSpPr>
          <a:xfrm>
            <a:off x="285840" y="2071800"/>
            <a:ext cx="8501040" cy="4429080"/>
            <a:chOff x="285840" y="2071800"/>
            <a:chExt cx="8501040" cy="4429080"/>
          </a:xfrm>
        </p:grpSpPr>
        <p:pic>
          <p:nvPicPr>
            <p:cNvPr id="1006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274840"/>
              <a:ext cx="8501040" cy="422604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07" name="그룹 44"/>
            <p:cNvGrpSpPr/>
            <p:nvPr/>
          </p:nvGrpSpPr>
          <p:grpSpPr>
            <a:xfrm>
              <a:off x="928440" y="2071800"/>
              <a:ext cx="7574040" cy="551160"/>
              <a:chOff x="928440" y="2071800"/>
              <a:chExt cx="7574040" cy="551160"/>
            </a:xfrm>
          </p:grpSpPr>
          <p:grpSp>
            <p:nvGrpSpPr>
              <p:cNvPr id="1008" name="그룹 91"/>
              <p:cNvGrpSpPr/>
              <p:nvPr/>
            </p:nvGrpSpPr>
            <p:grpSpPr>
              <a:xfrm>
                <a:off x="928440" y="2071800"/>
                <a:ext cx="3311640" cy="551160"/>
                <a:chOff x="928440" y="2071800"/>
                <a:chExt cx="3311640" cy="551160"/>
              </a:xfrm>
            </p:grpSpPr>
            <p:grpSp>
              <p:nvGrpSpPr>
                <p:cNvPr id="1009" name="그룹 34"/>
                <p:cNvGrpSpPr/>
                <p:nvPr/>
              </p:nvGrpSpPr>
              <p:grpSpPr>
                <a:xfrm>
                  <a:off x="928440" y="2175840"/>
                  <a:ext cx="349200" cy="343800"/>
                  <a:chOff x="928440" y="2175840"/>
                  <a:chExt cx="349200" cy="343800"/>
                </a:xfrm>
              </p:grpSpPr>
              <p:pic>
                <p:nvPicPr>
                  <p:cNvPr id="1010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182320"/>
                    <a:ext cx="349200" cy="33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11" name="TextBox 36"/>
                  <p:cNvSpPr/>
                  <p:nvPr/>
                </p:nvSpPr>
                <p:spPr>
                  <a:xfrm>
                    <a:off x="957960" y="217584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3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12" name="직사각형 45"/>
                <p:cNvSpPr/>
                <p:nvPr/>
              </p:nvSpPr>
              <p:spPr>
                <a:xfrm>
                  <a:off x="1462680" y="2071800"/>
                  <a:ext cx="277740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장기기억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(long-term</a:t>
                  </a: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 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memory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3" name="직선 연결선 43"/>
              <p:cNvSpPr/>
              <p:nvPr/>
            </p:nvSpPr>
            <p:spPr>
              <a:xfrm flipV="1">
                <a:off x="6286320" y="2344320"/>
                <a:ext cx="2216160" cy="1260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14" name="그룹 51"/>
          <p:cNvGrpSpPr/>
          <p:nvPr/>
        </p:nvGrpSpPr>
        <p:grpSpPr>
          <a:xfrm>
            <a:off x="993600" y="2571840"/>
            <a:ext cx="7777440" cy="2712600"/>
            <a:chOff x="993600" y="2571840"/>
            <a:chExt cx="7777440" cy="2712600"/>
          </a:xfrm>
        </p:grpSpPr>
        <p:grpSp>
          <p:nvGrpSpPr>
            <p:cNvPr id="1015" name="그룹 142"/>
            <p:cNvGrpSpPr/>
            <p:nvPr/>
          </p:nvGrpSpPr>
          <p:grpSpPr>
            <a:xfrm>
              <a:off x="993600" y="2571840"/>
              <a:ext cx="1857240" cy="505440"/>
              <a:chOff x="993600" y="2571840"/>
              <a:chExt cx="1857240" cy="505440"/>
            </a:xfrm>
          </p:grpSpPr>
          <p:grpSp>
            <p:nvGrpSpPr>
              <p:cNvPr id="1016" name="그룹 97"/>
              <p:cNvGrpSpPr/>
              <p:nvPr/>
            </p:nvGrpSpPr>
            <p:grpSpPr>
              <a:xfrm>
                <a:off x="993600" y="2629800"/>
                <a:ext cx="295200" cy="338040"/>
                <a:chOff x="993600" y="2629800"/>
                <a:chExt cx="295200" cy="338040"/>
              </a:xfrm>
            </p:grpSpPr>
            <p:pic>
              <p:nvPicPr>
                <p:cNvPr id="1017" name="Picture 177" descr="bull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000080" y="2686680"/>
                  <a:ext cx="283680" cy="281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18" name="TextBox 146"/>
                <p:cNvSpPr/>
                <p:nvPr/>
              </p:nvSpPr>
              <p:spPr>
                <a:xfrm>
                  <a:off x="993600" y="262980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9" name="직사각형 58"/>
              <p:cNvSpPr/>
              <p:nvPr/>
            </p:nvSpPr>
            <p:spPr>
              <a:xfrm>
                <a:off x="1158120" y="2571840"/>
                <a:ext cx="16927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식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knowledge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20" name="직선 연결선 53"/>
            <p:cNvSpPr/>
            <p:nvPr/>
          </p:nvSpPr>
          <p:spPr>
            <a:xfrm>
              <a:off x="4484520" y="28573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21" name="그룹 114"/>
            <p:cNvGrpSpPr/>
            <p:nvPr/>
          </p:nvGrpSpPr>
          <p:grpSpPr>
            <a:xfrm>
              <a:off x="1361880" y="3000240"/>
              <a:ext cx="7409160" cy="2284200"/>
              <a:chOff x="1361880" y="3000240"/>
              <a:chExt cx="7409160" cy="2284200"/>
            </a:xfrm>
          </p:grpSpPr>
          <p:sp>
            <p:nvSpPr>
              <p:cNvPr id="1022" name="직사각형 37"/>
              <p:cNvSpPr/>
              <p:nvPr/>
            </p:nvSpPr>
            <p:spPr>
              <a:xfrm>
                <a:off x="1599120" y="3000240"/>
                <a:ext cx="7171920" cy="228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서술적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언적 지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: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실적인 정보에 대한 지식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절차적 지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어떤 행위를 수행하는 방식에 대한 지식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조건적 지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서술적 지식과 절차적 지식을 선택하고 활용하는 지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언제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/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왜 적용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23" name="타원 56"/>
              <p:cNvGrpSpPr/>
              <p:nvPr/>
            </p:nvGrpSpPr>
            <p:grpSpPr>
              <a:xfrm>
                <a:off x="1361880" y="3145320"/>
                <a:ext cx="229320" cy="231480"/>
                <a:chOff x="1361880" y="3145320"/>
                <a:chExt cx="229320" cy="231480"/>
              </a:xfrm>
            </p:grpSpPr>
            <p:pic>
              <p:nvPicPr>
                <p:cNvPr id="1024" name="타원 56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361880" y="314532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5" name=""/>
                <p:cNvSpPr/>
                <p:nvPr/>
              </p:nvSpPr>
              <p:spPr>
                <a:xfrm rot="10800000">
                  <a:off x="1444680" y="32022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26" name="타원 57"/>
              <p:cNvGrpSpPr/>
              <p:nvPr/>
            </p:nvGrpSpPr>
            <p:grpSpPr>
              <a:xfrm>
                <a:off x="1361880" y="4602600"/>
                <a:ext cx="229320" cy="231480"/>
                <a:chOff x="1361880" y="4602600"/>
                <a:chExt cx="229320" cy="231480"/>
              </a:xfrm>
            </p:grpSpPr>
            <p:pic>
              <p:nvPicPr>
                <p:cNvPr id="1027" name="타원 57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361880" y="460260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8" name=""/>
                <p:cNvSpPr/>
                <p:nvPr/>
              </p:nvSpPr>
              <p:spPr>
                <a:xfrm rot="10800000">
                  <a:off x="1444680" y="46576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29" name="타원 61"/>
              <p:cNvGrpSpPr/>
              <p:nvPr/>
            </p:nvGrpSpPr>
            <p:grpSpPr>
              <a:xfrm>
                <a:off x="1361880" y="4956120"/>
                <a:ext cx="229320" cy="231480"/>
                <a:chOff x="1361880" y="4956120"/>
                <a:chExt cx="229320" cy="231480"/>
              </a:xfrm>
            </p:grpSpPr>
            <p:pic>
              <p:nvPicPr>
                <p:cNvPr id="1030" name="타원 61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61880" y="495612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31" name=""/>
                <p:cNvSpPr/>
                <p:nvPr/>
              </p:nvSpPr>
              <p:spPr>
                <a:xfrm rot="10800000">
                  <a:off x="1444680" y="50148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032" name="그룹 54"/>
          <p:cNvGrpSpPr/>
          <p:nvPr/>
        </p:nvGrpSpPr>
        <p:grpSpPr>
          <a:xfrm>
            <a:off x="1714680" y="3440160"/>
            <a:ext cx="7429320" cy="839160"/>
            <a:chOff x="1714680" y="3440160"/>
            <a:chExt cx="7429320" cy="839160"/>
          </a:xfrm>
        </p:grpSpPr>
        <p:sp>
          <p:nvSpPr>
            <p:cNvPr id="1033" name="직사각형 37"/>
            <p:cNvSpPr/>
            <p:nvPr/>
          </p:nvSpPr>
          <p:spPr>
            <a:xfrm>
              <a:off x="1904760" y="3455280"/>
              <a:ext cx="72392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미적 기억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과에서 학습한 사실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개념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법칙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원리에 대한 지식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일화적 기억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개인적 경험에 대한 기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직사각형 37"/>
            <p:cNvSpPr/>
            <p:nvPr/>
          </p:nvSpPr>
          <p:spPr>
            <a:xfrm>
              <a:off x="1714680" y="3440160"/>
              <a:ext cx="2854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just">
                <a:lnSpc>
                  <a:spcPct val="15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 algn="just">
                <a:lnSpc>
                  <a:spcPct val="15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5" name="그룹 51"/>
          <p:cNvGrpSpPr/>
          <p:nvPr/>
        </p:nvGrpSpPr>
        <p:grpSpPr>
          <a:xfrm>
            <a:off x="996840" y="5357880"/>
            <a:ext cx="7774200" cy="824040"/>
            <a:chOff x="996840" y="5357880"/>
            <a:chExt cx="7774200" cy="824040"/>
          </a:xfrm>
        </p:grpSpPr>
        <p:grpSp>
          <p:nvGrpSpPr>
            <p:cNvPr id="1036" name="그룹 142"/>
            <p:cNvGrpSpPr/>
            <p:nvPr/>
          </p:nvGrpSpPr>
          <p:grpSpPr>
            <a:xfrm>
              <a:off x="996840" y="5357880"/>
              <a:ext cx="1566360" cy="505440"/>
              <a:chOff x="996840" y="5357880"/>
              <a:chExt cx="1566360" cy="505440"/>
            </a:xfrm>
          </p:grpSpPr>
          <p:grpSp>
            <p:nvGrpSpPr>
              <p:cNvPr id="1037" name="그룹 97"/>
              <p:cNvGrpSpPr/>
              <p:nvPr/>
            </p:nvGrpSpPr>
            <p:grpSpPr>
              <a:xfrm>
                <a:off x="996840" y="5415840"/>
                <a:ext cx="305640" cy="338760"/>
                <a:chOff x="996840" y="5415840"/>
                <a:chExt cx="305640" cy="338760"/>
              </a:xfrm>
            </p:grpSpPr>
            <p:pic>
              <p:nvPicPr>
                <p:cNvPr id="1038" name="Picture 177" descr="bull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000080" y="5472720"/>
                  <a:ext cx="286200" cy="2818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39" name="TextBox 146"/>
                <p:cNvSpPr/>
                <p:nvPr/>
              </p:nvSpPr>
              <p:spPr>
                <a:xfrm>
                  <a:off x="996840" y="541584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40" name="직사각형 41"/>
              <p:cNvSpPr/>
              <p:nvPr/>
            </p:nvSpPr>
            <p:spPr>
              <a:xfrm>
                <a:off x="1178280" y="5357880"/>
                <a:ext cx="13849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도식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schema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41" name="직선 연결선 36"/>
            <p:cNvSpPr/>
            <p:nvPr/>
          </p:nvSpPr>
          <p:spPr>
            <a:xfrm>
              <a:off x="4484520" y="56437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2" name="그룹 114"/>
            <p:cNvGrpSpPr/>
            <p:nvPr/>
          </p:nvGrpSpPr>
          <p:grpSpPr>
            <a:xfrm>
              <a:off x="1361880" y="5722920"/>
              <a:ext cx="7409160" cy="459000"/>
              <a:chOff x="1361880" y="5722920"/>
              <a:chExt cx="7409160" cy="459000"/>
            </a:xfrm>
          </p:grpSpPr>
          <p:sp>
            <p:nvSpPr>
              <p:cNvPr id="1043" name="직사각형 37"/>
              <p:cNvSpPr/>
              <p:nvPr/>
            </p:nvSpPr>
            <p:spPr>
              <a:xfrm>
                <a:off x="1599120" y="5722920"/>
                <a:ext cx="71719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많은 정보를 유의미한 범주로 조직하는 인지구조 혹은 지식구조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44" name="타원 39"/>
              <p:cNvGrpSpPr/>
              <p:nvPr/>
            </p:nvGrpSpPr>
            <p:grpSpPr>
              <a:xfrm>
                <a:off x="1361880" y="5864400"/>
                <a:ext cx="229320" cy="237960"/>
                <a:chOff x="1361880" y="5864400"/>
                <a:chExt cx="229320" cy="237960"/>
              </a:xfrm>
            </p:grpSpPr>
            <p:pic>
              <p:nvPicPr>
                <p:cNvPr id="1045" name="타원 39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1361880" y="5864400"/>
                  <a:ext cx="229320" cy="237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46" name=""/>
                <p:cNvSpPr/>
                <p:nvPr/>
              </p:nvSpPr>
              <p:spPr>
                <a:xfrm rot="10800000">
                  <a:off x="1444680" y="59241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9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7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48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049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50" name="직사각형 13"/>
              <p:cNvSpPr/>
              <p:nvPr/>
            </p:nvSpPr>
            <p:spPr>
              <a:xfrm>
                <a:off x="1414440" y="1385640"/>
                <a:ext cx="1615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과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/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전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1" name="직선 연결선 26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5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5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5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5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57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8" name="그룹 39"/>
          <p:cNvGrpSpPr/>
          <p:nvPr/>
        </p:nvGrpSpPr>
        <p:grpSpPr>
          <a:xfrm>
            <a:off x="642960" y="2031840"/>
            <a:ext cx="8072280" cy="1968840"/>
            <a:chOff x="642960" y="2031840"/>
            <a:chExt cx="8072280" cy="1968840"/>
          </a:xfrm>
        </p:grpSpPr>
        <p:grpSp>
          <p:nvGrpSpPr>
            <p:cNvPr id="1059" name="그룹 123"/>
            <p:cNvGrpSpPr/>
            <p:nvPr/>
          </p:nvGrpSpPr>
          <p:grpSpPr>
            <a:xfrm>
              <a:off x="642960" y="2031840"/>
              <a:ext cx="8072280" cy="1968840"/>
              <a:chOff x="642960" y="2031840"/>
              <a:chExt cx="8072280" cy="1968840"/>
            </a:xfrm>
          </p:grpSpPr>
          <p:pic>
            <p:nvPicPr>
              <p:cNvPr id="1060" name="Picture 5" descr="233"/>
              <p:cNvPicPr/>
              <p:nvPr/>
            </p:nvPicPr>
            <p:blipFill>
              <a:blip r:embed="rId3"/>
              <a:srcRect l="2544" t="0" r="24313" b="0"/>
              <a:stretch/>
            </p:blipFill>
            <p:spPr>
              <a:xfrm>
                <a:off x="642960" y="2071440"/>
                <a:ext cx="8072280" cy="19292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061" name="직사각형 31"/>
              <p:cNvSpPr/>
              <p:nvPr/>
            </p:nvSpPr>
            <p:spPr>
              <a:xfrm>
                <a:off x="928440" y="2031840"/>
                <a:ext cx="778680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과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전략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은 특정 기억체계에 저장된 정보를 다른 기억체계로 전이시키기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위한 정신과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예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단기 기억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장기기억으로 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과정은 정보를 부호화하고 저장하며 인출하기 위해 사용하는 정신활동으로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주의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연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부호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출 등이 있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62" name="타원 33"/>
              <p:cNvGrpSpPr/>
              <p:nvPr/>
            </p:nvGrpSpPr>
            <p:grpSpPr>
              <a:xfrm>
                <a:off x="908280" y="2316240"/>
                <a:ext cx="225360" cy="231480"/>
                <a:chOff x="908280" y="2316240"/>
                <a:chExt cx="225360" cy="231480"/>
              </a:xfrm>
            </p:grpSpPr>
            <p:pic>
              <p:nvPicPr>
                <p:cNvPr id="1063" name="타원 33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08280" y="231624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64" name=""/>
                <p:cNvSpPr/>
                <p:nvPr/>
              </p:nvSpPr>
              <p:spPr>
                <a:xfrm rot="10800000">
                  <a:off x="987480" y="237168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65" name="타원 29"/>
            <p:cNvGrpSpPr/>
            <p:nvPr/>
          </p:nvGrpSpPr>
          <p:grpSpPr>
            <a:xfrm>
              <a:off x="908280" y="3145680"/>
              <a:ext cx="225360" cy="231480"/>
              <a:chOff x="908280" y="3145680"/>
              <a:chExt cx="225360" cy="231480"/>
            </a:xfrm>
          </p:grpSpPr>
          <p:pic>
            <p:nvPicPr>
              <p:cNvPr id="1066" name="타원 29" descr=""/>
              <p:cNvPicPr/>
              <p:nvPr/>
            </p:nvPicPr>
            <p:blipFill>
              <a:blip r:embed="rId5"/>
              <a:stretch/>
            </p:blipFill>
            <p:spPr>
              <a:xfrm>
                <a:off x="908280" y="31456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67" name=""/>
              <p:cNvSpPr/>
              <p:nvPr/>
            </p:nvSpPr>
            <p:spPr>
              <a:xfrm rot="10800000">
                <a:off x="987480" y="32025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68" name="그룹 173"/>
          <p:cNvGrpSpPr/>
          <p:nvPr/>
        </p:nvGrpSpPr>
        <p:grpSpPr>
          <a:xfrm>
            <a:off x="285840" y="4071960"/>
            <a:ext cx="8572320" cy="2357280"/>
            <a:chOff x="285840" y="4071960"/>
            <a:chExt cx="8572320" cy="2357280"/>
          </a:xfrm>
        </p:grpSpPr>
        <p:grpSp>
          <p:nvGrpSpPr>
            <p:cNvPr id="1069" name="그룹 63"/>
            <p:cNvGrpSpPr/>
            <p:nvPr/>
          </p:nvGrpSpPr>
          <p:grpSpPr>
            <a:xfrm>
              <a:off x="285840" y="4071960"/>
              <a:ext cx="8572320" cy="2357280"/>
              <a:chOff x="285840" y="4071960"/>
              <a:chExt cx="8572320" cy="2357280"/>
            </a:xfrm>
          </p:grpSpPr>
          <p:grpSp>
            <p:nvGrpSpPr>
              <p:cNvPr id="1070" name="그룹 91"/>
              <p:cNvGrpSpPr/>
              <p:nvPr/>
            </p:nvGrpSpPr>
            <p:grpSpPr>
              <a:xfrm>
                <a:off x="285840" y="4275360"/>
                <a:ext cx="8572320" cy="2153880"/>
                <a:chOff x="285840" y="4275360"/>
                <a:chExt cx="8572320" cy="2153880"/>
              </a:xfrm>
            </p:grpSpPr>
            <p:pic>
              <p:nvPicPr>
                <p:cNvPr id="1071" name="Picture 5" descr="233"/>
                <p:cNvPicPr/>
                <p:nvPr/>
              </p:nvPicPr>
              <p:blipFill>
                <a:blip r:embed="rId6"/>
                <a:srcRect l="0" t="0" r="24313" b="0"/>
                <a:stretch/>
              </p:blipFill>
              <p:spPr>
                <a:xfrm>
                  <a:off x="285840" y="4275360"/>
                  <a:ext cx="8501040" cy="21538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72" name="직사각형 47"/>
                <p:cNvSpPr/>
                <p:nvPr/>
              </p:nvSpPr>
              <p:spPr>
                <a:xfrm>
                  <a:off x="1143000" y="4572000"/>
                  <a:ext cx="7715160" cy="173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감각기억에 파지된 수많은 정보 중에서 특정정보를 선택하는 인지과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선택적 주의집중은 칵테일 파티효과에서 잘 입증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예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 </a:t>
                  </a: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이분 청취법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주의는 학습의 필수요건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73" name="그룹 44"/>
              <p:cNvGrpSpPr/>
              <p:nvPr/>
            </p:nvGrpSpPr>
            <p:grpSpPr>
              <a:xfrm>
                <a:off x="928440" y="4071960"/>
                <a:ext cx="7574040" cy="551160"/>
                <a:chOff x="928440" y="4071960"/>
                <a:chExt cx="7574040" cy="551160"/>
              </a:xfrm>
            </p:grpSpPr>
            <p:grpSp>
              <p:nvGrpSpPr>
                <p:cNvPr id="1074" name="그룹 91"/>
                <p:cNvGrpSpPr/>
                <p:nvPr/>
              </p:nvGrpSpPr>
              <p:grpSpPr>
                <a:xfrm>
                  <a:off x="928440" y="4071960"/>
                  <a:ext cx="1917360" cy="551160"/>
                  <a:chOff x="928440" y="4071960"/>
                  <a:chExt cx="1917360" cy="551160"/>
                </a:xfrm>
              </p:grpSpPr>
              <p:grpSp>
                <p:nvGrpSpPr>
                  <p:cNvPr id="1075" name="그룹 34"/>
                  <p:cNvGrpSpPr/>
                  <p:nvPr/>
                </p:nvGrpSpPr>
                <p:grpSpPr>
                  <a:xfrm>
                    <a:off x="928440" y="4176000"/>
                    <a:ext cx="349200" cy="343800"/>
                    <a:chOff x="928440" y="4176000"/>
                    <a:chExt cx="349200" cy="343800"/>
                  </a:xfrm>
                </p:grpSpPr>
                <p:pic>
                  <p:nvPicPr>
                    <p:cNvPr id="1076" name="Picture 177" descr="bull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928440" y="4181760"/>
                      <a:ext cx="349200" cy="338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77" name="TextBox 36"/>
                    <p:cNvSpPr/>
                    <p:nvPr/>
                  </p:nvSpPr>
                  <p:spPr>
                    <a:xfrm>
                      <a:off x="957960" y="41760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78" name="직사각형 43"/>
                  <p:cNvSpPr/>
                  <p:nvPr/>
                </p:nvSpPr>
                <p:spPr>
                  <a:xfrm>
                    <a:off x="1305720" y="4071960"/>
                    <a:ext cx="154008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주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attentio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79" name="직선 연결선 41"/>
                <p:cNvSpPr/>
                <p:nvPr/>
              </p:nvSpPr>
              <p:spPr>
                <a:xfrm flipV="1">
                  <a:off x="6286320" y="434484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80" name="타원 37"/>
            <p:cNvGrpSpPr/>
            <p:nvPr/>
          </p:nvGrpSpPr>
          <p:grpSpPr>
            <a:xfrm>
              <a:off x="932760" y="4730400"/>
              <a:ext cx="225360" cy="231480"/>
              <a:chOff x="932760" y="4730400"/>
              <a:chExt cx="225360" cy="231480"/>
            </a:xfrm>
          </p:grpSpPr>
          <p:pic>
            <p:nvPicPr>
              <p:cNvPr id="1081" name="타원 37" descr=""/>
              <p:cNvPicPr/>
              <p:nvPr/>
            </p:nvPicPr>
            <p:blipFill>
              <a:blip r:embed="rId8"/>
              <a:stretch/>
            </p:blipFill>
            <p:spPr>
              <a:xfrm>
                <a:off x="932760" y="47304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2" name=""/>
              <p:cNvSpPr/>
              <p:nvPr/>
            </p:nvSpPr>
            <p:spPr>
              <a:xfrm rot="10800000">
                <a:off x="1014480" y="47865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3" name="타원 48"/>
            <p:cNvGrpSpPr/>
            <p:nvPr/>
          </p:nvGrpSpPr>
          <p:grpSpPr>
            <a:xfrm>
              <a:off x="932760" y="5169240"/>
              <a:ext cx="225360" cy="231480"/>
              <a:chOff x="932760" y="5169240"/>
              <a:chExt cx="225360" cy="231480"/>
            </a:xfrm>
          </p:grpSpPr>
          <p:pic>
            <p:nvPicPr>
              <p:cNvPr id="1084" name="타원 48" descr=""/>
              <p:cNvPicPr/>
              <p:nvPr/>
            </p:nvPicPr>
            <p:blipFill>
              <a:blip r:embed="rId9"/>
              <a:stretch/>
            </p:blipFill>
            <p:spPr>
              <a:xfrm>
                <a:off x="932760" y="51692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5" name=""/>
              <p:cNvSpPr/>
              <p:nvPr/>
            </p:nvSpPr>
            <p:spPr>
              <a:xfrm rot="10800000">
                <a:off x="1014480" y="5229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6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87" name="그룹 173"/>
          <p:cNvGrpSpPr/>
          <p:nvPr/>
        </p:nvGrpSpPr>
        <p:grpSpPr>
          <a:xfrm>
            <a:off x="285840" y="1928880"/>
            <a:ext cx="8572320" cy="4143240"/>
            <a:chOff x="285840" y="1928880"/>
            <a:chExt cx="8572320" cy="4143240"/>
          </a:xfrm>
        </p:grpSpPr>
        <p:grpSp>
          <p:nvGrpSpPr>
            <p:cNvPr id="1088" name="그룹 63"/>
            <p:cNvGrpSpPr/>
            <p:nvPr/>
          </p:nvGrpSpPr>
          <p:grpSpPr>
            <a:xfrm>
              <a:off x="285840" y="1928880"/>
              <a:ext cx="8572320" cy="4143240"/>
              <a:chOff x="285840" y="1928880"/>
              <a:chExt cx="8572320" cy="4143240"/>
            </a:xfrm>
          </p:grpSpPr>
          <p:grpSp>
            <p:nvGrpSpPr>
              <p:cNvPr id="1089" name="그룹 91"/>
              <p:cNvGrpSpPr/>
              <p:nvPr/>
            </p:nvGrpSpPr>
            <p:grpSpPr>
              <a:xfrm>
                <a:off x="285840" y="2132280"/>
                <a:ext cx="8572320" cy="3939840"/>
                <a:chOff x="285840" y="2132280"/>
                <a:chExt cx="8572320" cy="3939840"/>
              </a:xfrm>
            </p:grpSpPr>
            <p:pic>
              <p:nvPicPr>
                <p:cNvPr id="1090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85840" y="2132280"/>
                  <a:ext cx="8501040" cy="39398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91" name="직사각형 55"/>
                <p:cNvSpPr/>
                <p:nvPr/>
              </p:nvSpPr>
              <p:spPr>
                <a:xfrm>
                  <a:off x="1143000" y="2428920"/>
                  <a:ext cx="7715160" cy="3385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정보를 원래 형태 그대로 소리 내어 읽거나 속으로 반복하는 전략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시연의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기능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작업기억에 정보를 파지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단기기억의 정보를 장기기억으로 전이시킨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시연과 기억은 비례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cf.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계열위치효과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-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초두성과 신근성 효과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집중적인 시연보다 여러 차례 시연하는 분산학습이 효과적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자의 적극적 시연은 기억을 촉진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92" name="그룹 44"/>
              <p:cNvGrpSpPr/>
              <p:nvPr/>
            </p:nvGrpSpPr>
            <p:grpSpPr>
              <a:xfrm>
                <a:off x="928440" y="1928880"/>
                <a:ext cx="7574040" cy="1144440"/>
                <a:chOff x="928440" y="1928880"/>
                <a:chExt cx="7574040" cy="1144440"/>
              </a:xfrm>
            </p:grpSpPr>
            <p:grpSp>
              <p:nvGrpSpPr>
                <p:cNvPr id="1093" name="그룹 91"/>
                <p:cNvGrpSpPr/>
                <p:nvPr/>
              </p:nvGrpSpPr>
              <p:grpSpPr>
                <a:xfrm>
                  <a:off x="928440" y="1928880"/>
                  <a:ext cx="1944360" cy="551160"/>
                  <a:chOff x="928440" y="1928880"/>
                  <a:chExt cx="1944360" cy="551160"/>
                </a:xfrm>
              </p:grpSpPr>
              <p:grpSp>
                <p:nvGrpSpPr>
                  <p:cNvPr id="1094" name="그룹 34"/>
                  <p:cNvGrpSpPr/>
                  <p:nvPr/>
                </p:nvGrpSpPr>
                <p:grpSpPr>
                  <a:xfrm>
                    <a:off x="928440" y="2032920"/>
                    <a:ext cx="349200" cy="343800"/>
                    <a:chOff x="928440" y="2032920"/>
                    <a:chExt cx="349200" cy="343800"/>
                  </a:xfrm>
                </p:grpSpPr>
                <p:pic>
                  <p:nvPicPr>
                    <p:cNvPr id="1095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928440" y="2041920"/>
                      <a:ext cx="349200" cy="334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96" name="TextBox 36"/>
                    <p:cNvSpPr/>
                    <p:nvPr/>
                  </p:nvSpPr>
                  <p:spPr>
                    <a:xfrm>
                      <a:off x="957960" y="20329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97" name="직사각형 51"/>
                  <p:cNvSpPr/>
                  <p:nvPr/>
                </p:nvSpPr>
                <p:spPr>
                  <a:xfrm>
                    <a:off x="1305360" y="1928880"/>
                    <a:ext cx="15674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시연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rehearsal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98" name="직선 연결선 49"/>
                <p:cNvSpPr/>
                <p:nvPr/>
              </p:nvSpPr>
              <p:spPr>
                <a:xfrm flipV="1">
                  <a:off x="6286320" y="220140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9" name="직선 연결선 64"/>
                <p:cNvSpPr/>
                <p:nvPr/>
              </p:nvSpPr>
              <p:spPr>
                <a:xfrm>
                  <a:off x="3285720" y="3071880"/>
                  <a:ext cx="521676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00" name="타원 39"/>
            <p:cNvGrpSpPr/>
            <p:nvPr/>
          </p:nvGrpSpPr>
          <p:grpSpPr>
            <a:xfrm>
              <a:off x="932760" y="2584800"/>
              <a:ext cx="225360" cy="231480"/>
              <a:chOff x="932760" y="2584800"/>
              <a:chExt cx="225360" cy="231480"/>
            </a:xfrm>
          </p:grpSpPr>
          <p:pic>
            <p:nvPicPr>
              <p:cNvPr id="1101" name="타원 39" descr=""/>
              <p:cNvPicPr/>
              <p:nvPr/>
            </p:nvPicPr>
            <p:blipFill>
              <a:blip r:embed="rId4"/>
              <a:stretch/>
            </p:blipFill>
            <p:spPr>
              <a:xfrm>
                <a:off x="932760" y="2584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2" name=""/>
              <p:cNvSpPr/>
              <p:nvPr/>
            </p:nvSpPr>
            <p:spPr>
              <a:xfrm rot="10800000">
                <a:off x="1014480" y="2643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3" name="타원 40"/>
            <p:cNvGrpSpPr/>
            <p:nvPr/>
          </p:nvGrpSpPr>
          <p:grpSpPr>
            <a:xfrm>
              <a:off x="932760" y="3029760"/>
              <a:ext cx="225360" cy="231480"/>
              <a:chOff x="932760" y="3029760"/>
              <a:chExt cx="225360" cy="231480"/>
            </a:xfrm>
          </p:grpSpPr>
          <p:pic>
            <p:nvPicPr>
              <p:cNvPr id="1104" name="타원 40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30297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5" name=""/>
              <p:cNvSpPr/>
              <p:nvPr/>
            </p:nvSpPr>
            <p:spPr>
              <a:xfrm rot="10800000">
                <a:off x="1014480" y="30859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6" name="타원 66"/>
            <p:cNvGrpSpPr/>
            <p:nvPr/>
          </p:nvGrpSpPr>
          <p:grpSpPr>
            <a:xfrm>
              <a:off x="932760" y="4242960"/>
              <a:ext cx="225360" cy="231480"/>
              <a:chOff x="932760" y="4242960"/>
              <a:chExt cx="225360" cy="231480"/>
            </a:xfrm>
          </p:grpSpPr>
          <p:pic>
            <p:nvPicPr>
              <p:cNvPr id="1107" name="타원 66" descr=""/>
              <p:cNvPicPr/>
              <p:nvPr/>
            </p:nvPicPr>
            <p:blipFill>
              <a:blip r:embed="rId6"/>
              <a:stretch/>
            </p:blipFill>
            <p:spPr>
              <a:xfrm>
                <a:off x="932760" y="42429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8" name=""/>
              <p:cNvSpPr/>
              <p:nvPr/>
            </p:nvSpPr>
            <p:spPr>
              <a:xfrm rot="10800000">
                <a:off x="1014480" y="43005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9" name="타원 67"/>
            <p:cNvGrpSpPr/>
            <p:nvPr/>
          </p:nvGrpSpPr>
          <p:grpSpPr>
            <a:xfrm>
              <a:off x="1218960" y="3456360"/>
              <a:ext cx="225360" cy="231480"/>
              <a:chOff x="1218960" y="3456360"/>
              <a:chExt cx="225360" cy="231480"/>
            </a:xfrm>
          </p:grpSpPr>
          <p:pic>
            <p:nvPicPr>
              <p:cNvPr id="1110" name="타원 67" descr=""/>
              <p:cNvPicPr/>
              <p:nvPr/>
            </p:nvPicPr>
            <p:blipFill>
              <a:blip r:embed="rId7"/>
              <a:stretch/>
            </p:blipFill>
            <p:spPr>
              <a:xfrm>
                <a:off x="1218960" y="34563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1" name=""/>
              <p:cNvSpPr/>
              <p:nvPr/>
            </p:nvSpPr>
            <p:spPr>
              <a:xfrm rot="10800000">
                <a:off x="1299960" y="35146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2" name="타원 68"/>
            <p:cNvGrpSpPr/>
            <p:nvPr/>
          </p:nvGrpSpPr>
          <p:grpSpPr>
            <a:xfrm>
              <a:off x="1218960" y="3816000"/>
              <a:ext cx="225360" cy="231480"/>
              <a:chOff x="1218960" y="3816000"/>
              <a:chExt cx="225360" cy="231480"/>
            </a:xfrm>
          </p:grpSpPr>
          <p:pic>
            <p:nvPicPr>
              <p:cNvPr id="1113" name="타원 68" descr=""/>
              <p:cNvPicPr/>
              <p:nvPr/>
            </p:nvPicPr>
            <p:blipFill>
              <a:blip r:embed="rId8"/>
              <a:stretch/>
            </p:blipFill>
            <p:spPr>
              <a:xfrm>
                <a:off x="1218960" y="38160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4" name=""/>
              <p:cNvSpPr/>
              <p:nvPr/>
            </p:nvSpPr>
            <p:spPr>
              <a:xfrm rot="10800000">
                <a:off x="1299960" y="3871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15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11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117" name="직사각형 13"/>
              <p:cNvSpPr/>
              <p:nvPr/>
            </p:nvSpPr>
            <p:spPr>
              <a:xfrm>
                <a:off x="1414440" y="1385640"/>
                <a:ext cx="1615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과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/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전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8" name="직선 연결선 63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12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2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122" name="Freeform 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2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24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10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1-18T01:16:06Z</dcterms:modified>
  <cp:revision>410</cp:revision>
  <dc:subject/>
  <dc:title>PowerPoint Template</dc:title>
</cp:coreProperties>
</file>